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charts/_rels/chart1.xml.rels" ContentType="application/vnd.openxmlformats-package.relationships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drawings/drawing1.xml" ContentType="application/vnd.openxmlformats-officedocument.drawingml.chartshape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</p:sldIdLst>
  <p:sldSz cx="12192000" cy="6858000"/>
  <p:notesSz cx="6797675" cy="9926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presProps" Target="presProps.xml"/>
</Relationships>
</file>

<file path=ppt/charts/_rels/chart1.xml.rels><?xml version="1.0" encoding="UTF-8"?>
<Relationships xmlns="http://schemas.openxmlformats.org/package/2006/relationships"><Relationship Id="rId1" Type="http://schemas.openxmlformats.org/officeDocument/2006/relationships/chartUserShapes" Target="../drawings/drawing1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12354592860008"/>
          <c:y val="0"/>
          <c:w val="0.87327851317021"/>
          <c:h val="0.999903586579252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Overall Q1  Performance Configuration</c:v>
                </c:pt>
              </c:strCache>
            </c:strRef>
          </c:tx>
          <c:spPr>
            <a:solidFill>
              <a:srgbClr val="80808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b05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Achieved</c:v>
                </c:pt>
                <c:pt idx="1">
                  <c:v>Not Achieved </c:v>
                </c:pt>
                <c:pt idx="2">
                  <c:v>Measured per academic year /Annually.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0.884600000000002</c:v>
                </c:pt>
                <c:pt idx="1">
                  <c:v>0.0769</c:v>
                </c:pt>
                <c:pt idx="2">
                  <c:v>0.0385</c:v>
                </c:pt>
              </c:numCache>
            </c:numRef>
          </c:val>
        </c:ser>
      </c:pie3DChart>
    </c:plotArea>
    <c:plotVisOnly val="1"/>
    <c:dispBlanksAs val="zero"/>
  </c:chart>
  <c:spPr>
    <a:noFill/>
    <a:ln w="0">
      <a:solidFill>
        <a:srgbClr val="808080"/>
      </a:solidFill>
    </a:ln>
  </c:spPr>
  <c:userShapes r:id="rId1"/>
</c:chartSpace>
</file>

<file path=ppt/drawings/drawing1.xml><?xml version="1.0" encoding="utf-8"?>
<c:userShapes xmlns:cdr="http://schemas.openxmlformats.org/drawingml/2006/chartDrawing" xmlns:a="http://schemas.openxmlformats.org/drawingml/2006/main" xmlns:c="http://schemas.openxmlformats.org/drawingml/2006/chart" xmlns:r="http://schemas.openxmlformats.org/officeDocument/2006/relationships">
  <cdr:relSizeAnchor>
    <cdr:from>
      <cdr:x>0.424521994919107</cdr:x>
      <cdr:y>0.075684535287312</cdr:y>
    </cdr:from>
    <cdr:to>
      <cdr:x>0.509025270758123</cdr:x>
      <cdr:y>0.158021596606248</cdr:y>
    </cdr:to>
    <cdr:sp>
      <cdr:nvSpPr>
        <cdr:cNvPr id="303" name="TextBox 1"/>
        <cdr:cNvSpPr/>
      </cdr:nvSpPr>
      <cdr:spPr>
        <a:xfrm>
          <a:off x="4572000" y="282600"/>
          <a:ext cx="910080" cy="307440"/>
        </a:xfrm>
        <a:prstGeom prst="rect">
          <a:avLst/>
        </a:prstGeom>
        <a:solidFill>
          <a:schemeClr val="bg1"/>
        </a:solidFill>
        <a:ln w="0">
          <a:noFill/>
        </a:ln>
      </cdr:spPr>
      <cdr:style>
        <a:lnRef idx="0"/>
        <a:fillRef idx="0"/>
        <a:effectRef idx="0"/>
        <a:fontRef idx="minor"/>
      </cdr:style>
      <cdr:txBody>
        <a:bodyPr vertOverflow="clip" lIns="90000" rIns="90000" tIns="45000" bIns="45000" anchor="t">
          <a:noAutofit/>
        </a:bodyPr>
        <a:p>
          <a:pPr>
            <a:lnSpc>
              <a:spcPct val="100000"/>
            </a:lnSpc>
          </a:pPr>
          <a:r>
            <a:rPr b="1" lang="en-US" sz="1600" spc="-1" strike="noStrike">
              <a:solidFill>
                <a:srgbClr val="000000"/>
              </a:solidFill>
              <a:latin typeface="Times New Roman"/>
            </a:rPr>
            <a:t>   </a:t>
          </a:r>
          <a:r>
            <a:rPr b="1" lang="en-US" sz="1600" spc="-1" strike="noStrike">
              <a:solidFill>
                <a:srgbClr val="000000"/>
              </a:solidFill>
              <a:latin typeface="Times New Roman"/>
            </a:rPr>
            <a:t>28%</a:t>
          </a:r>
          <a:endParaRPr b="0" sz="1600" spc="-1" strike="noStrike">
            <a:solidFill>
              <a:srgbClr val="000000"/>
            </a:solidFill>
            <a:latin typeface="Times New Roman"/>
          </a:endParaRPr>
        </a:p>
      </cdr:txBody>
    </cdr:sp>
  </cdr:relSizeAnchor>
  <cdr:relSizeAnchor>
    <cdr:from>
      <cdr:x>0.518852787805856</cdr:x>
      <cdr:y>0.469340532202083</cdr:y>
    </cdr:from>
    <cdr:to>
      <cdr:x>0.650889156304319</cdr:x>
      <cdr:y>0.591689163131508</cdr:y>
    </cdr:to>
    <cdr:sp>
      <cdr:nvSpPr>
        <cdr:cNvPr id="304" name="TextBox 3"/>
        <cdr:cNvSpPr/>
      </cdr:nvSpPr>
      <cdr:spPr>
        <a:xfrm>
          <a:off x="5587920" y="1752480"/>
          <a:ext cx="1422000" cy="456840"/>
        </a:xfrm>
        <a:prstGeom prst="rect">
          <a:avLst/>
        </a:prstGeom>
        <a:solidFill>
          <a:schemeClr val="bg1"/>
        </a:solidFill>
        <a:ln w="0">
          <a:noFill/>
        </a:ln>
      </cdr:spPr>
      <cdr:style>
        <a:lnRef idx="0"/>
        <a:fillRef idx="0"/>
        <a:effectRef idx="0"/>
        <a:fontRef idx="minor"/>
      </cdr:style>
      <cdr:txBody>
        <a:bodyPr vertOverflow="clip" lIns="90000" rIns="90000" tIns="45000" bIns="45000" anchor="t">
          <a:noAutofit/>
        </a:bodyPr>
        <a:p>
          <a:pPr>
            <a:lnSpc>
              <a:spcPct val="100000"/>
            </a:lnSpc>
          </a:pPr>
          <a:r>
            <a:rPr b="1" lang="en-US" sz="1800" spc="-1" strike="noStrike">
              <a:solidFill>
                <a:srgbClr val="000000"/>
              </a:solidFill>
              <a:latin typeface="Times New Roman"/>
            </a:rPr>
            <a:t>72%</a:t>
          </a:r>
          <a:endParaRPr b="0" sz="1800" spc="-1" strike="noStrike">
            <a:solidFill>
              <a:srgbClr val="000000"/>
            </a:solidFill>
            <a:latin typeface="Times New Roman"/>
          </a:endParaRPr>
        </a:p>
      </cdr:txBody>
    </cdr:sp>
  </cdr:relSizeAnchor>
</c:userShape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F1F1F8-459D-4EEC-AF58-AD8677694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Num" idx="7"/>
          </p:nvPr>
        </p:nvSpPr>
        <p:spPr>
          <a:xfrm>
            <a:off x="3850200" y="9429480"/>
            <a:ext cx="2945520" cy="495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7FF514-6970-40A6-8095-6232A76B55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ldImg"/>
          </p:nvPr>
        </p:nvSpPr>
        <p:spPr>
          <a:xfrm>
            <a:off x="272880" y="836640"/>
            <a:ext cx="6194160" cy="348408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3"/>
          <p:cNvSpPr>
            <a:spLocks noGrp="1"/>
          </p:cNvSpPr>
          <p:nvPr>
            <p:ph type="body"/>
          </p:nvPr>
        </p:nvSpPr>
        <p:spPr>
          <a:xfrm>
            <a:off x="907200" y="4715640"/>
            <a:ext cx="4982760" cy="44658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7960" y="278676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55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604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12376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796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604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12376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3924-DA08-405E-861A-9D783D54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6808-BB86-4CE3-B9ED-91497D04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BC2C-4228-4391-BDC1-A2185459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7BBF-269C-4305-86F3-01E0C82B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E0F4-A783-4DBA-9532-FF1F48EE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4D37-A3AC-487B-BD4A-E7504298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CB74-E812-4C08-8D46-05E48F6B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55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720E-736B-43DE-8F74-1C8EBF6D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55BF-001C-42E9-B3C0-48D4C1B6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7960" y="278676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31E5-B5A3-4542-A643-974F138B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55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3319-0852-4C93-8F69-6802652A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2604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12376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2796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2604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12376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7356-C8BC-413C-B073-D120DEE2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355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7960" y="278676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355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2604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12376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2796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22604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12376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355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7960" y="278676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2355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2604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12376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2796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22604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812376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2355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7960" y="278676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2355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2604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12376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32796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422604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812376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2355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7960" y="278676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2355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2604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12376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32796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422604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812376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55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2355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7960" y="278676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2355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2604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12376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2796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422604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812376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8" hidden="1"/>
          <p:cNvSpPr/>
          <p:nvPr/>
        </p:nvSpPr>
        <p:spPr>
          <a:xfrm>
            <a:off x="11533680" y="6705720"/>
            <a:ext cx="353160" cy="1378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</a:pPr>
            <a:fld id="{E4D64FBC-6EBB-49D2-8976-E3EC3668F6E9}" type="slidenum">
              <a:rPr b="0" lang="en-GB" sz="900" spc="-1" strike="noStrike">
                <a:solidFill>
                  <a:srgbClr val="77787b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AutoShape 73"/>
          <p:cNvGraphicFramePr/>
          <p:nvPr/>
        </p:nvGraphicFramePr>
        <p:xfrm>
          <a:off x="0" y="0"/>
          <a:ext cx="211320" cy="158400"/>
        </p:xfrm>
        <a:graphic>
          <a:graphicData uri="http://schemas.openxmlformats.org/presentationml/2006/ole">
            <p:oleObj r:id="rId2" spid="">
              <p:embed/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1720" y="3124080"/>
            <a:ext cx="91479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C:\Users\jmumaw\Desktop\DCS\Pics\Logo.JPG"/>
          <p:cNvPicPr/>
          <p:nvPr/>
        </p:nvPicPr>
        <p:blipFill>
          <a:blip r:embed="rId3"/>
          <a:stretch/>
        </p:blipFill>
        <p:spPr>
          <a:xfrm>
            <a:off x="203040" y="6396120"/>
            <a:ext cx="1815840" cy="44748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onsolas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609B33-6EA1-4976-AD10-629D8131C110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8"/>
          <p:cNvSpPr/>
          <p:nvPr/>
        </p:nvSpPr>
        <p:spPr>
          <a:xfrm>
            <a:off x="11533680" y="6705720"/>
            <a:ext cx="353160" cy="1378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</a:pPr>
            <a:fld id="{9DAAFF0E-7C28-42D3-9871-9F8F96725F05}" type="slidenum">
              <a:rPr b="0" lang="en-GB" sz="900" spc="-1" strike="noStrike">
                <a:solidFill>
                  <a:srgbClr val="77787b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6760" indent="-266760">
              <a:lnSpc>
                <a:spcPct val="90000"/>
              </a:lnSpc>
              <a:spcBef>
                <a:spcPts val="1440"/>
              </a:spcBef>
              <a:buClr>
                <a:srgbClr val="7d0900"/>
              </a:buClr>
              <a:buFont typeface="Wingdings" charset="2"/>
              <a:buChar char="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8640" indent="-189000">
              <a:lnSpc>
                <a:spcPct val="90000"/>
              </a:lnSpc>
              <a:spcBef>
                <a:spcPts val="799"/>
              </a:spcBef>
              <a:buClr>
                <a:srgbClr val="7d09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62000">
              <a:lnSpc>
                <a:spcPct val="90000"/>
              </a:lnSpc>
              <a:spcBef>
                <a:spcPts val="479"/>
              </a:spcBef>
              <a:buClr>
                <a:srgbClr val="7d0900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793800" indent="-166680">
              <a:lnSpc>
                <a:spcPct val="90000"/>
              </a:lnSpc>
              <a:spcBef>
                <a:spcPts val="159"/>
              </a:spcBef>
              <a:buClr>
                <a:srgbClr val="7d0900"/>
              </a:buClr>
              <a:buFont typeface="Arial"/>
              <a:buChar char="-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55800" indent="-158760">
              <a:lnSpc>
                <a:spcPct val="90000"/>
              </a:lnSpc>
              <a:buClr>
                <a:srgbClr val="7d0900"/>
              </a:buClr>
              <a:buFont typeface="Arial"/>
              <a:buChar char="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327960" y="596880"/>
            <a:ext cx="115290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8"/>
          <p:cNvSpPr/>
          <p:nvPr/>
        </p:nvSpPr>
        <p:spPr>
          <a:xfrm>
            <a:off x="11533680" y="6705720"/>
            <a:ext cx="353160" cy="1378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</a:pPr>
            <a:fld id="{3EE09C1C-1F5F-450A-AE20-7B776ECCA58D}" type="slidenum">
              <a:rPr b="0" lang="en-GB" sz="900" spc="-1" strike="noStrike">
                <a:solidFill>
                  <a:srgbClr val="77787b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8"/>
          <p:cNvSpPr/>
          <p:nvPr/>
        </p:nvSpPr>
        <p:spPr>
          <a:xfrm>
            <a:off x="11533680" y="6705720"/>
            <a:ext cx="353160" cy="1378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</a:pPr>
            <a:fld id="{E965A487-EEDB-4CA3-A903-E8B028D8618E}" type="slidenum">
              <a:rPr b="0" lang="en-GB" sz="900" spc="-1" strike="noStrike">
                <a:solidFill>
                  <a:srgbClr val="77787b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6760" indent="-266760">
              <a:lnSpc>
                <a:spcPct val="90000"/>
              </a:lnSpc>
              <a:spcBef>
                <a:spcPts val="1440"/>
              </a:spcBef>
              <a:buClr>
                <a:srgbClr val="7d0900"/>
              </a:buClr>
              <a:buFont typeface="Wingdings" charset="2"/>
              <a:buChar char="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8640" indent="-189000">
              <a:lnSpc>
                <a:spcPct val="90000"/>
              </a:lnSpc>
              <a:spcBef>
                <a:spcPts val="799"/>
              </a:spcBef>
              <a:buClr>
                <a:srgbClr val="7d09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62000">
              <a:lnSpc>
                <a:spcPct val="90000"/>
              </a:lnSpc>
              <a:spcBef>
                <a:spcPts val="479"/>
              </a:spcBef>
              <a:buClr>
                <a:srgbClr val="7d0900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793800" indent="-166680">
              <a:lnSpc>
                <a:spcPct val="90000"/>
              </a:lnSpc>
              <a:spcBef>
                <a:spcPts val="159"/>
              </a:spcBef>
              <a:buClr>
                <a:srgbClr val="7d0900"/>
              </a:buClr>
              <a:buFont typeface="Arial"/>
              <a:buChar char="-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55800" indent="-158760">
              <a:lnSpc>
                <a:spcPct val="90000"/>
              </a:lnSpc>
              <a:buClr>
                <a:srgbClr val="7d0900"/>
              </a:buClr>
              <a:buFont typeface="Arial"/>
              <a:buChar char="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C:\Users\jmumaw\Desktop\DCS\Pics\Logo.JPG"/>
          <p:cNvPicPr/>
          <p:nvPr/>
        </p:nvPicPr>
        <p:blipFill>
          <a:blip r:embed="rId2"/>
          <a:stretch/>
        </p:blipFill>
        <p:spPr>
          <a:xfrm>
            <a:off x="203040" y="6396120"/>
            <a:ext cx="1815840" cy="447480"/>
          </a:xfrm>
          <a:prstGeom prst="rect">
            <a:avLst/>
          </a:prstGeom>
          <a:ln w="9525">
            <a:noFill/>
          </a:ln>
        </p:spPr>
      </p:pic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8"/>
          <p:cNvSpPr/>
          <p:nvPr/>
        </p:nvSpPr>
        <p:spPr>
          <a:xfrm>
            <a:off x="11533680" y="6705720"/>
            <a:ext cx="353160" cy="1378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</a:pPr>
            <a:fld id="{331A0B27-98A8-4A63-963C-411EC75AF0B2}" type="slidenum">
              <a:rPr b="0" lang="en-GB" sz="900" spc="-1" strike="noStrike">
                <a:solidFill>
                  <a:srgbClr val="77787b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6760" indent="-266760">
              <a:lnSpc>
                <a:spcPct val="90000"/>
              </a:lnSpc>
              <a:spcBef>
                <a:spcPts val="1440"/>
              </a:spcBef>
              <a:buClr>
                <a:srgbClr val="7d0900"/>
              </a:buClr>
              <a:buFont typeface="Wingdings" charset="2"/>
              <a:buChar char="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8640" indent="-189000">
              <a:lnSpc>
                <a:spcPct val="90000"/>
              </a:lnSpc>
              <a:spcBef>
                <a:spcPts val="799"/>
              </a:spcBef>
              <a:buClr>
                <a:srgbClr val="7d09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62000">
              <a:lnSpc>
                <a:spcPct val="90000"/>
              </a:lnSpc>
              <a:spcBef>
                <a:spcPts val="479"/>
              </a:spcBef>
              <a:buClr>
                <a:srgbClr val="7d0900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793800" indent="-166680">
              <a:lnSpc>
                <a:spcPct val="90000"/>
              </a:lnSpc>
              <a:spcBef>
                <a:spcPts val="159"/>
              </a:spcBef>
              <a:buClr>
                <a:srgbClr val="7d0900"/>
              </a:buClr>
              <a:buFont typeface="Arial"/>
              <a:buChar char="-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55800" indent="-158760">
              <a:lnSpc>
                <a:spcPct val="90000"/>
              </a:lnSpc>
              <a:buClr>
                <a:srgbClr val="7d0900"/>
              </a:buClr>
              <a:buFont typeface="Arial"/>
              <a:buChar char="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C:\Users\jmumaw\Desktop\DCS\Pics\Logo.JPG"/>
          <p:cNvPicPr/>
          <p:nvPr/>
        </p:nvPicPr>
        <p:blipFill>
          <a:blip r:embed="rId2"/>
          <a:stretch/>
        </p:blipFill>
        <p:spPr>
          <a:xfrm>
            <a:off x="203040" y="6396120"/>
            <a:ext cx="1815840" cy="447480"/>
          </a:xfrm>
          <a:prstGeom prst="rect">
            <a:avLst/>
          </a:prstGeom>
          <a:ln w="9525">
            <a:noFill/>
          </a:ln>
        </p:spPr>
      </p:pic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8"/>
          <p:cNvSpPr/>
          <p:nvPr/>
        </p:nvSpPr>
        <p:spPr>
          <a:xfrm>
            <a:off x="11533680" y="6705720"/>
            <a:ext cx="353160" cy="1378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</a:pPr>
            <a:fld id="{598A6BC6-8AB3-443D-AE87-5A277CCE7877}" type="slidenum">
              <a:rPr b="0" lang="en-GB" sz="900" spc="-1" strike="noStrike">
                <a:solidFill>
                  <a:srgbClr val="77787b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6760" indent="-266760">
              <a:lnSpc>
                <a:spcPct val="90000"/>
              </a:lnSpc>
              <a:spcBef>
                <a:spcPts val="1440"/>
              </a:spcBef>
              <a:buClr>
                <a:srgbClr val="7d0900"/>
              </a:buClr>
              <a:buFont typeface="Wingdings" charset="2"/>
              <a:buChar char="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8640" indent="-189000">
              <a:lnSpc>
                <a:spcPct val="90000"/>
              </a:lnSpc>
              <a:spcBef>
                <a:spcPts val="799"/>
              </a:spcBef>
              <a:buClr>
                <a:srgbClr val="7d09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62000">
              <a:lnSpc>
                <a:spcPct val="90000"/>
              </a:lnSpc>
              <a:spcBef>
                <a:spcPts val="479"/>
              </a:spcBef>
              <a:buClr>
                <a:srgbClr val="7d0900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793800" indent="-166680">
              <a:lnSpc>
                <a:spcPct val="90000"/>
              </a:lnSpc>
              <a:spcBef>
                <a:spcPts val="159"/>
              </a:spcBef>
              <a:buClr>
                <a:srgbClr val="7d0900"/>
              </a:buClr>
              <a:buFont typeface="Arial"/>
              <a:buChar char="-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55800" indent="-158760">
              <a:lnSpc>
                <a:spcPct val="90000"/>
              </a:lnSpc>
              <a:buClr>
                <a:srgbClr val="7d0900"/>
              </a:buClr>
              <a:buFont typeface="Arial"/>
              <a:buChar char="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C:\Users\jmumaw\Desktop\DCS\Pics\Logo.JPG"/>
          <p:cNvPicPr/>
          <p:nvPr/>
        </p:nvPicPr>
        <p:blipFill>
          <a:blip r:embed="rId2"/>
          <a:stretch/>
        </p:blipFill>
        <p:spPr>
          <a:xfrm>
            <a:off x="203040" y="6396120"/>
            <a:ext cx="1815840" cy="447480"/>
          </a:xfrm>
          <a:prstGeom prst="rect">
            <a:avLst/>
          </a:prstGeom>
          <a:ln w="9525">
            <a:noFill/>
          </a:ln>
        </p:spPr>
      </p:pic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4" descr="Slide1 Template_1.jpg"/>
          <p:cNvPicPr/>
          <p:nvPr/>
        </p:nvPicPr>
        <p:blipFill>
          <a:blip r:embed="rId1"/>
          <a:stretch/>
        </p:blipFill>
        <p:spPr>
          <a:xfrm>
            <a:off x="0" y="12600"/>
            <a:ext cx="12178800" cy="685764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2"/>
          <p:cNvSpPr/>
          <p:nvPr/>
        </p:nvSpPr>
        <p:spPr>
          <a:xfrm>
            <a:off x="203400" y="914400"/>
            <a:ext cx="5968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NATIONAL MANAGEMENT QUARTER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PERFORMANCE REVIEW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KZN REG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203400" y="4419720"/>
            <a:ext cx="45205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ed by: DC TK  Mthombe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e: 24 November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: Top Corners Rounded 60"/>
          <p:cNvSpPr/>
          <p:nvPr/>
        </p:nvSpPr>
        <p:spPr>
          <a:xfrm rot="5400000">
            <a:off x="5232240" y="-5131440"/>
            <a:ext cx="1439640" cy="1187028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34" name="Title 1"/>
          <p:cNvSpPr/>
          <p:nvPr/>
        </p:nvSpPr>
        <p:spPr>
          <a:xfrm>
            <a:off x="63000" y="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of offenders participating in GET per academic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7"/>
          <p:cNvSpPr/>
          <p:nvPr/>
        </p:nvSpPr>
        <p:spPr>
          <a:xfrm>
            <a:off x="203040" y="1663560"/>
            <a:ext cx="892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REGIONAL TARGET VERSUS PERFORMANCE FOR 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QUARTER (2020/202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8"/>
          <p:cNvSpPr/>
          <p:nvPr/>
        </p:nvSpPr>
        <p:spPr>
          <a:xfrm>
            <a:off x="-104040" y="410508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MANAGEMENT AR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Table 9"/>
          <p:cNvGraphicFramePr/>
          <p:nvPr/>
        </p:nvGraphicFramePr>
        <p:xfrm>
          <a:off x="266760" y="2058480"/>
          <a:ext cx="11658240" cy="106704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37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IL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IL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E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E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</a:tr>
              <a:tr h="375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a Zulu Na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026/1282 = 80.0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9/69 =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026/1282 = 80.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0/84 = 47.6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026/1282 = 80.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65/562 =47.1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25/2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= 52.3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8" name="Table 11"/>
          <p:cNvGraphicFramePr/>
          <p:nvPr/>
        </p:nvGraphicFramePr>
        <p:xfrm>
          <a:off x="228600" y="4572000"/>
          <a:ext cx="11658240" cy="181188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471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IL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IL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E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E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442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62/327 = 80.1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9/69 =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62/327 = 80.1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62/327 = 80.1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0/75 = 4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7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Empa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160/200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160/200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160/200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60/200 = 3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14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6/70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6/70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6/70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4/27 = 8808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: Top Corners Rounded 60"/>
          <p:cNvSpPr/>
          <p:nvPr/>
        </p:nvSpPr>
        <p:spPr>
          <a:xfrm rot="5400000">
            <a:off x="5232240" y="-5131440"/>
            <a:ext cx="1439640" cy="1187028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40" name="Title 1"/>
          <p:cNvSpPr/>
          <p:nvPr/>
        </p:nvSpPr>
        <p:spPr>
          <a:xfrm>
            <a:off x="63000" y="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of offenders participating in GET per academic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8"/>
          <p:cNvSpPr/>
          <p:nvPr/>
        </p:nvSpPr>
        <p:spPr>
          <a:xfrm>
            <a:off x="228600" y="1523880"/>
            <a:ext cx="8811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MANAGEMENT AR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Table 11"/>
          <p:cNvGraphicFramePr/>
          <p:nvPr/>
        </p:nvGraphicFramePr>
        <p:xfrm>
          <a:off x="228600" y="1893240"/>
          <a:ext cx="11658240" cy="431064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116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IL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IL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E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E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75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Arial"/>
                        </a:rPr>
                        <a:t>Kokst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48/185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48/185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48/185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5/148 = 37.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85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Nc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220/275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220/275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40/84 = 47.6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220/275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36/52 = 69.2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85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Arial"/>
                        </a:rPr>
                        <a:t>Pietermaritzb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Arial"/>
                        </a:rPr>
                        <a:t>124/155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Arial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Arial"/>
                        </a:rPr>
                        <a:t>124/155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Arial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Arial"/>
                        </a:rPr>
                        <a:t>124/155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Arial"/>
                        </a:rPr>
                        <a:t>48/48 =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Arial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Arial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22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6/70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6/70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6/70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2/12 =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: Top Corners Rounded 60"/>
          <p:cNvSpPr/>
          <p:nvPr/>
        </p:nvSpPr>
        <p:spPr>
          <a:xfrm rot="5400000">
            <a:off x="5304600" y="-5287320"/>
            <a:ext cx="1142640" cy="117176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44" name="TextBox 8"/>
          <p:cNvSpPr/>
          <p:nvPr/>
        </p:nvSpPr>
        <p:spPr>
          <a:xfrm>
            <a:off x="29520" y="1143000"/>
            <a:ext cx="11705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. SOURCE OF UNDER-ACHIEVEMENT AT CORRECTIONAL CENTRE LEVEL MANAGEMENT AREA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Table 11"/>
          <p:cNvGraphicFramePr/>
          <p:nvPr/>
        </p:nvGraphicFramePr>
        <p:xfrm>
          <a:off x="228600" y="1789200"/>
          <a:ext cx="11810520" cy="4898160"/>
        </p:xfrm>
        <a:graphic>
          <a:graphicData uri="http://schemas.openxmlformats.org/drawingml/2006/table">
            <a:tbl>
              <a:tblPr/>
              <a:tblGrid>
                <a:gridCol w="1686960"/>
                <a:gridCol w="1686960"/>
                <a:gridCol w="1275840"/>
                <a:gridCol w="2098440"/>
                <a:gridCol w="1686960"/>
                <a:gridCol w="1686960"/>
                <a:gridCol w="1686960"/>
              </a:tblGrid>
              <a:tr h="695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 2020/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RTER 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S THAT CONTRIBUTED TOWARDS UNDER-ACHIEV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S FOR UND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 CAUS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CIATED RISK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990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Youth Centre CC  - Usethub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nly AET Level 4 was in attendance during the mon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not attending classes  may resort to gangsterism which will increase the number of assaults and unnatural dea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90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Empa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Qalakabusha CC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nly AET Level 4 was in attendance during the mon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not attending classes  may resort to gangsterism which will increase the number of assaults and unnatural dea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34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 C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scourt C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nly AET Level 4 was in attendance during the mon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not attending classes  may resort to gangsterism which will increase the number of assaults and unnatural dea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46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000" spc="-1" strike="noStrike">
                <a:solidFill>
                  <a:srgbClr val="ffffff"/>
                </a:solidFill>
                <a:latin typeface="Arial Black"/>
              </a:rPr>
              <a:t>Percentage of offenders participating in GET per academic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: Top Corners Rounded 60"/>
          <p:cNvSpPr/>
          <p:nvPr/>
        </p:nvSpPr>
        <p:spPr>
          <a:xfrm rot="5400000">
            <a:off x="5304600" y="-5287320"/>
            <a:ext cx="1142640" cy="117176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48" name="TextBox 8"/>
          <p:cNvSpPr/>
          <p:nvPr/>
        </p:nvSpPr>
        <p:spPr>
          <a:xfrm>
            <a:off x="29520" y="1143000"/>
            <a:ext cx="1170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OURCE OF UNDER-ACHIEVEMENT AT CORRECTIONAL CENTRE LEVEL MANAGEMENT AREA TO POPU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Table 11"/>
          <p:cNvGraphicFramePr/>
          <p:nvPr/>
        </p:nvGraphicFramePr>
        <p:xfrm>
          <a:off x="29520" y="1512360"/>
          <a:ext cx="12162240" cy="5185080"/>
        </p:xfrm>
        <a:graphic>
          <a:graphicData uri="http://schemas.openxmlformats.org/drawingml/2006/table">
            <a:tbl>
              <a:tblPr/>
              <a:tblGrid>
                <a:gridCol w="1490760"/>
                <a:gridCol w="1569240"/>
                <a:gridCol w="1728720"/>
                <a:gridCol w="2160720"/>
                <a:gridCol w="1737360"/>
                <a:gridCol w="1737360"/>
                <a:gridCol w="1737360"/>
              </a:tblGrid>
              <a:tr h="60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 2020/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RTER 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S THAT CONTRIBUTED TOWARDS UNDER-ACHIEV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S FOR UND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 CAUS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CIATED RISK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076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Arial"/>
                        </a:rPr>
                        <a:t>Kokst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bongweni C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Kokstad Medium C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Port Sheps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 line with Covid-19 lockdown regulations, only Level four learners attended class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not attending classes  may resort to gangsterism which will increase the number of assaults and unnatural dea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76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Nc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All the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nly AET Level 4 was in attendance during the mon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not attending classes  may resort to gangsterism which will increase the number of assaults and unnatural dea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76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Arial"/>
                        </a:rPr>
                        <a:t>Pietermaritzb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on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nly AET Level 4 was in attendance during the mon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ders not attending classes  may resort to gangsterism which will increase the number of assaults and unnatural dea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7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the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nly AET Level 4 was in attendance during the month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not attending classes  may resort to gangsterism which will increase the number of assaults and unnatural death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50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000" spc="-1" strike="noStrike">
                <a:solidFill>
                  <a:srgbClr val="ffffff"/>
                </a:solidFill>
                <a:latin typeface="Arial Black"/>
              </a:rPr>
              <a:t>Percentage of offenders participating in GET per academic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: Top Corners Rounded 60"/>
          <p:cNvSpPr/>
          <p:nvPr/>
        </p:nvSpPr>
        <p:spPr>
          <a:xfrm rot="5400000">
            <a:off x="5232240" y="-5215320"/>
            <a:ext cx="1439640" cy="1187028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2" name="TextBox 8"/>
          <p:cNvSpPr/>
          <p:nvPr/>
        </p:nvSpPr>
        <p:spPr>
          <a:xfrm>
            <a:off x="216000" y="1440000"/>
            <a:ext cx="11442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PROJECT PLAN TO ADDRESS UNDER PERFORMANCE – MANAGEMENT 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Table 11"/>
          <p:cNvGraphicFramePr/>
          <p:nvPr/>
        </p:nvGraphicFramePr>
        <p:xfrm>
          <a:off x="216000" y="1981080"/>
          <a:ext cx="11670840" cy="4114440"/>
        </p:xfrm>
        <a:graphic>
          <a:graphicData uri="http://schemas.openxmlformats.org/drawingml/2006/table">
            <a:tbl>
              <a:tblPr/>
              <a:tblGrid>
                <a:gridCol w="1945080"/>
                <a:gridCol w="1945080"/>
                <a:gridCol w="1945080"/>
                <a:gridCol w="1945080"/>
                <a:gridCol w="1945080"/>
                <a:gridCol w="1945080"/>
              </a:tblGrid>
              <a:tr h="872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 /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</a:tr>
              <a:tr h="1000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ve marketing of GET educational program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ordinator Dev &amp; Care and Regional Head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asing in of other levels  be resumed in line with the DCS COVID-19  risk adjusted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83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Kokst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ve marketing of GET educational program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ordinator Dev &amp; Care and Regional Head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asing in of other levels  be resumed in line with the DCS COVID-19  risk adjusted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57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ve marketing of GET educational program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ordinator Dev &amp; Care and Regional Head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asing in of other levels  be resumed in line with the DCS COVID-19  risk adjusted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54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LAN TO ADDRESS UNDER 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of offenders participating in GET per academic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: Top Corners Rounded 60"/>
          <p:cNvSpPr/>
          <p:nvPr/>
        </p:nvSpPr>
        <p:spPr>
          <a:xfrm rot="5400000">
            <a:off x="5232240" y="-5215320"/>
            <a:ext cx="1439640" cy="1187028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6" name="TextBox 8"/>
          <p:cNvSpPr/>
          <p:nvPr/>
        </p:nvSpPr>
        <p:spPr>
          <a:xfrm>
            <a:off x="216000" y="1440000"/>
            <a:ext cx="11442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PROJECT PLAN TO ADDRESS UNDER PERFORMANCE – MANAGEMENT 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Table 11"/>
          <p:cNvGraphicFramePr/>
          <p:nvPr/>
        </p:nvGraphicFramePr>
        <p:xfrm>
          <a:off x="216000" y="1981080"/>
          <a:ext cx="11670840" cy="4506480"/>
        </p:xfrm>
        <a:graphic>
          <a:graphicData uri="http://schemas.openxmlformats.org/drawingml/2006/table">
            <a:tbl>
              <a:tblPr/>
              <a:tblGrid>
                <a:gridCol w="1945080"/>
                <a:gridCol w="1945080"/>
                <a:gridCol w="1945080"/>
                <a:gridCol w="1945080"/>
                <a:gridCol w="1945080"/>
                <a:gridCol w="1945080"/>
              </a:tblGrid>
              <a:tr h="533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 /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</a:tr>
              <a:tr h="1000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Arial"/>
                        </a:rPr>
                        <a:t>Kokst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ve marketing of GET educational program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ordinator Dev &amp; Care and Regional Head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asing in of other levels  be resumed in line with the DCS COVID-19  risk adjusted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56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Nc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ve marketing of GET educational program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ordinator Dev &amp; Care and Regional Head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asing in of other levels  be resumed in line with the DCS COVID-19  risk adjusted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57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Arial"/>
                        </a:rPr>
                        <a:t>Pietermaritzb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ve marketing of GET educational program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ordinator Dev &amp; Care and Regional Head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asing in of other levels  be resumed in line with the DCS COVID-19  risk adjusted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57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ve marketing of GET educational program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Coordinator Dev &amp; Care and Regional Head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asing in of other levels  be resumed in line with the DCS COVID-19  risk adjusted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58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LAN TO ADDRESS UNDER 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of offenders participating in GET per academic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: Top Corners Rounded 60"/>
          <p:cNvSpPr/>
          <p:nvPr/>
        </p:nvSpPr>
        <p:spPr>
          <a:xfrm rot="5400000">
            <a:off x="5232240" y="-5215320"/>
            <a:ext cx="1439640" cy="1187028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60" name="Title 1"/>
          <p:cNvSpPr/>
          <p:nvPr/>
        </p:nvSpPr>
        <p:spPr>
          <a:xfrm>
            <a:off x="63000" y="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of inmates receiving spiritual care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7"/>
          <p:cNvSpPr/>
          <p:nvPr/>
        </p:nvSpPr>
        <p:spPr>
          <a:xfrm>
            <a:off x="124560" y="1416600"/>
            <a:ext cx="892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REGIONAL TARGET VERSUS PERFORMANCE FOR 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QUARTER (2020/202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8"/>
          <p:cNvSpPr/>
          <p:nvPr/>
        </p:nvSpPr>
        <p:spPr>
          <a:xfrm>
            <a:off x="228600" y="3048120"/>
            <a:ext cx="891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MANAGEMENT AR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Table 9"/>
          <p:cNvGraphicFramePr/>
          <p:nvPr/>
        </p:nvGraphicFramePr>
        <p:xfrm>
          <a:off x="228600" y="1808280"/>
          <a:ext cx="11658240" cy="106704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37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</a:tr>
              <a:tr h="375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a Zulu Na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006/30090 = 6.6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60/22164 = 3.4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006/30090 = 6.6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72/21851 = 3.9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006/30090 = 6.6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436/22009 = 6.5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 143/22 009 = 23.3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4" name="Table 11"/>
          <p:cNvGraphicFramePr/>
          <p:nvPr/>
        </p:nvGraphicFramePr>
        <p:xfrm>
          <a:off x="228600" y="3581280"/>
          <a:ext cx="11658240" cy="345492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62/9930 = 6.6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5/7604 = 1.2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62/9930 = 6.6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59/73 81 = 2.1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62/9930 = 6.6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85/7163 = 3.9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972/9930 = 4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84/7163 = 9.5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mpa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73/4098 = 6.6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2/2875 = 2.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73/4098 = 6.6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3/2895 =1.4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73/4098 = 6.6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71/2878 = 5.9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638/4098 = 39.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76/2878 = 13.0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60/2407 = 6.6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41/1649 = 14.6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60/2407 = 6.6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22/1620 = 13.7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60/2407 = 6.6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83/2052 = 13.7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60/2407 = 3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442/2052 = 70.2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Kokst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40/2106 = 6,6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69/1537 = 1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40/2106 = 6,6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95/1534 = 12.7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40/2106 = 6,6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58/1605 = 16.0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840/2106 = 39.8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846/2106=40.1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1030/1605 = 64.1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1089/1605=68.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Difference of 59 is with Q1 at Regional off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: Top Corners Rounded 60"/>
          <p:cNvSpPr/>
          <p:nvPr/>
        </p:nvSpPr>
        <p:spPr>
          <a:xfrm rot="5400000">
            <a:off x="5207400" y="-5190480"/>
            <a:ext cx="1439640" cy="1182060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66" name="Title 1"/>
          <p:cNvSpPr/>
          <p:nvPr/>
        </p:nvSpPr>
        <p:spPr>
          <a:xfrm>
            <a:off x="63000" y="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of inmates receiving spiritual care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8"/>
          <p:cNvSpPr/>
          <p:nvPr/>
        </p:nvSpPr>
        <p:spPr>
          <a:xfrm>
            <a:off x="228600" y="1752480"/>
            <a:ext cx="8915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MANAGEMENT AREA LEVEL (CONT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Table 11"/>
          <p:cNvGraphicFramePr/>
          <p:nvPr/>
        </p:nvGraphicFramePr>
        <p:xfrm>
          <a:off x="178920" y="2666880"/>
          <a:ext cx="11658240" cy="210708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91/2865 = 6.6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85/2105 = 8.7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91/2865 = 6.6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67/2045 =8.1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91/2865 = 6.6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14/1963 = 10,9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146/2865 = 4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97/1963 = 45.7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PMB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18/6262 = 6.6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4679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18/6262 = 6.6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4614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18/6262 = 6.6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2/4548 = 0.7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508/6262 = 40.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2/4548 = 0.7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62/2422/= 6.6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/1715 = 0.4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62/2422/= 6.6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6/1762 = 4,8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62/2422/= 6.6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93/1800 = 10,7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72/2422 =40.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82/1800 = 37.8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: Top Corners Rounded 60"/>
          <p:cNvSpPr/>
          <p:nvPr/>
        </p:nvSpPr>
        <p:spPr>
          <a:xfrm rot="5400000">
            <a:off x="5577840" y="-5547960"/>
            <a:ext cx="1066320" cy="121622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70" name="TextBox 8"/>
          <p:cNvSpPr/>
          <p:nvPr/>
        </p:nvSpPr>
        <p:spPr>
          <a:xfrm>
            <a:off x="29520" y="1066680"/>
            <a:ext cx="11035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CORRECTIONAL CENTRE LEVEL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Table 11"/>
          <p:cNvGraphicFramePr/>
          <p:nvPr/>
        </p:nvGraphicFramePr>
        <p:xfrm>
          <a:off x="0" y="1713240"/>
          <a:ext cx="12191760" cy="5489640"/>
        </p:xfrm>
        <a:graphic>
          <a:graphicData uri="http://schemas.openxmlformats.org/drawingml/2006/table">
            <a:tbl>
              <a:tblPr/>
              <a:tblGrid>
                <a:gridCol w="1741680"/>
                <a:gridCol w="1741680"/>
                <a:gridCol w="1741680"/>
                <a:gridCol w="1741680"/>
                <a:gridCol w="1741680"/>
                <a:gridCol w="1741680"/>
                <a:gridCol w="1741680"/>
              </a:tblGrid>
              <a:tr h="706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 2020/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RTER 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S THAT CONTRIBUTED TOWARDS UNDER-ACHIEV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S FOR UND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 CAUS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CIATED RISK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08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972/9930 = 4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84/7163 = 9.5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arget for the quarter not met due to  that the limits posed by the lock down. Less spiritual workers were allowed to work according to the risk adjustment strate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the provision of  fully fledged spiritual care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90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638/4098 = 39.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76/2878 = 13.0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mpa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arget for the quarter not met due to  that the limits posed by the lock down. Less spiritual workers were allowed to work according to the risk adjustment strate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the provision of  fully fledged spiritual care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27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60/2407 = 39.8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442/2052 = 70.2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arget for the quarter not met due to  that the limits posed by the lock down. Less spiritual workers were allowed to work according to the risk adjustment strate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the provision of  fully fledged spiritual care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52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840/2106 = 39.8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1030/1605 = 64.1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Kokst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Target for the quarter not met due to  that the limits posed by the lock down. Less spiritual workers were allowed to work according to the risk adjustment strate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Covid 19 Risk Adjusted Strategy Regulation are not relaxed to allow for the provision of  fully fledged spiritual care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72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0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000" spc="-1" strike="noStrike">
                <a:solidFill>
                  <a:srgbClr val="ffffff"/>
                </a:solidFill>
                <a:latin typeface="Arial Black"/>
              </a:rPr>
              <a:t>Percentage of inmates receiving spiritual care ser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: Top Corners Rounded 60"/>
          <p:cNvSpPr/>
          <p:nvPr/>
        </p:nvSpPr>
        <p:spPr>
          <a:xfrm rot="5400000">
            <a:off x="5384880" y="-5367600"/>
            <a:ext cx="1439640" cy="121748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74" name="TextBox 8"/>
          <p:cNvSpPr/>
          <p:nvPr/>
        </p:nvSpPr>
        <p:spPr>
          <a:xfrm>
            <a:off x="29520" y="1440000"/>
            <a:ext cx="11035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CORRECTIONAL CENTRE LEVEL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Table 11"/>
          <p:cNvGraphicFramePr/>
          <p:nvPr/>
        </p:nvGraphicFramePr>
        <p:xfrm>
          <a:off x="0" y="2086200"/>
          <a:ext cx="12191760" cy="4618800"/>
        </p:xfrm>
        <a:graphic>
          <a:graphicData uri="http://schemas.openxmlformats.org/drawingml/2006/table">
            <a:tbl>
              <a:tblPr/>
              <a:tblGrid>
                <a:gridCol w="1741680"/>
                <a:gridCol w="1741680"/>
                <a:gridCol w="1741680"/>
                <a:gridCol w="1741680"/>
                <a:gridCol w="1741680"/>
                <a:gridCol w="1741680"/>
                <a:gridCol w="1741680"/>
              </a:tblGrid>
              <a:tr h="70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 2020/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RTER 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S THAT CONTRIBUTED TOWARDS UNDER-ACHIEV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S FOR UND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 CAUS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CIATED RISK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432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146/2865 = 4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97/1963 = 45.7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arget for the quarter not met due to  that the limits posed by the lock down. Less spiritual workers were allowed to work according to the risk adjustment strate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the provision of  fully fledged spiritual care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42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508/6262 = 40.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2/4548 = 0.7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PMB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arget for the quarter not met due to  that the limits posed by the lock down. Less spiritual workers were allowed to work according to the risk adjustment strate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the provision of  fully fledged spiritual care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42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72/2422 = 40.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82/1800 = 37.8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arget for the quarter not met due to  that the limits posed by the lock down. Less spiritual workers were allowed to work according to the risk adjustment strate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the provision of  fully fledged spiritual care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76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of inmates receiving spiritual care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4"/>
          <p:cNvSpPr/>
          <p:nvPr/>
        </p:nvSpPr>
        <p:spPr>
          <a:xfrm>
            <a:off x="0" y="4292640"/>
            <a:ext cx="12191760" cy="1141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2311560" y="0"/>
            <a:ext cx="118440" cy="685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420280" y="0"/>
            <a:ext cx="9761400" cy="4292280"/>
          </a:xfrm>
          <a:prstGeom prst="rect">
            <a:avLst/>
          </a:prstGeom>
          <a:solidFill>
            <a:schemeClr val="accent6">
              <a:lumMod val="75000"/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2420280" y="4415760"/>
            <a:ext cx="9761400" cy="2450880"/>
          </a:xfrm>
          <a:prstGeom prst="rect">
            <a:avLst/>
          </a:prstGeom>
          <a:solidFill>
            <a:schemeClr val="accent6">
              <a:lumMod val="60000"/>
              <a:lumOff val="40000"/>
              <a:alpha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2908080" y="532080"/>
            <a:ext cx="785088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ffffff"/>
                </a:solidFill>
                <a:latin typeface="Consolas"/>
              </a:rPr>
              <a:t>2020/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ffffff"/>
                </a:solidFill>
                <a:latin typeface="Consolas"/>
              </a:rPr>
              <a:t>PERFORMANCE TARGETS NOT ACHIEVED DURING QUARTER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: Top Corners Rounded 60"/>
          <p:cNvSpPr/>
          <p:nvPr/>
        </p:nvSpPr>
        <p:spPr>
          <a:xfrm rot="5400000">
            <a:off x="5232240" y="-5215320"/>
            <a:ext cx="1439640" cy="1187028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78" name="TextBox 8"/>
          <p:cNvSpPr/>
          <p:nvPr/>
        </p:nvSpPr>
        <p:spPr>
          <a:xfrm>
            <a:off x="-228600" y="1650240"/>
            <a:ext cx="1165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PROJECT PLAN TO ADDRESS UNDER PERFORMANCE MANAGEMENT 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Table 11"/>
          <p:cNvGraphicFramePr/>
          <p:nvPr/>
        </p:nvGraphicFramePr>
        <p:xfrm>
          <a:off x="216000" y="2298960"/>
          <a:ext cx="11670840" cy="4467240"/>
        </p:xfrm>
        <a:graphic>
          <a:graphicData uri="http://schemas.openxmlformats.org/drawingml/2006/table">
            <a:tbl>
              <a:tblPr/>
              <a:tblGrid>
                <a:gridCol w="1945080"/>
                <a:gridCol w="1945080"/>
                <a:gridCol w="1945080"/>
                <a:gridCol w="1945080"/>
                <a:gridCol w="1945080"/>
                <a:gridCol w="1945080"/>
              </a:tblGrid>
              <a:tr h="58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 /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</a:tr>
              <a:tr h="86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involve  more offenders in spiritual care 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are involve in spiritual care services as the Covid 19 Risk Adjusted Strategy Regulation are relax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mpa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involve  more offenders in spiritual care 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are involve in spiritual care services as the Covid 19 Risk Adjusted Strategy Regulation are relax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involve  more offenders in spiritual care 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are involve in spiritual care services as the Covid 19 Risk Adjusted Strategy Regulation are relax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Kokst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Continue to involve  more offenders in spiritual care 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Area Commissioner and Area Coordinator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Offenders are involve in spiritual care services as the Covid 19 Risk Adjusted Strategy Regulation are relax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80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LAN TO ADDRESS UNDER 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of inmates receiving spiritual care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: Top Corners Rounded 60"/>
          <p:cNvSpPr/>
          <p:nvPr/>
        </p:nvSpPr>
        <p:spPr>
          <a:xfrm rot="5400000">
            <a:off x="5232240" y="-5215320"/>
            <a:ext cx="1439640" cy="1187028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82" name="TextBox 8"/>
          <p:cNvSpPr/>
          <p:nvPr/>
        </p:nvSpPr>
        <p:spPr>
          <a:xfrm>
            <a:off x="29520" y="1440000"/>
            <a:ext cx="1170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PROJECT PLAN TO ADDRESS UNDER PERFORMANCE MANAGEMENT 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Table 11"/>
          <p:cNvGraphicFramePr/>
          <p:nvPr/>
        </p:nvGraphicFramePr>
        <p:xfrm>
          <a:off x="29520" y="2043000"/>
          <a:ext cx="11857320" cy="3976560"/>
        </p:xfrm>
        <a:graphic>
          <a:graphicData uri="http://schemas.openxmlformats.org/drawingml/2006/table">
            <a:tbl>
              <a:tblPr/>
              <a:tblGrid>
                <a:gridCol w="1976040"/>
                <a:gridCol w="1976040"/>
                <a:gridCol w="1976040"/>
                <a:gridCol w="1976040"/>
                <a:gridCol w="1976040"/>
                <a:gridCol w="1976040"/>
              </a:tblGrid>
              <a:tr h="73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 /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</a:tr>
              <a:tr h="1080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involve  more offenders in spiritual care 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are involve in spiritual care services as the Covid 19 Risk Adjusted Strategy Regulation are relax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80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PMB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involve  more offenders in spiritual care 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are involve in spiritual care services as the Covid 19 Risk Adjusted Strategy Regulation are relax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80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involve  more offenders in spiritual care 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are involve in spiritual care services as the Covid 19 Risk Adjusted Strategy Regulation are relax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84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LAN TO ADDRESS UNDER 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000" spc="-1" strike="noStrike">
                <a:solidFill>
                  <a:srgbClr val="ffffff"/>
                </a:solidFill>
                <a:latin typeface="Arial Black"/>
              </a:rPr>
              <a:t>Percentage of inmates receiving spiritual car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: Top Corners Rounded 60"/>
          <p:cNvSpPr/>
          <p:nvPr/>
        </p:nvSpPr>
        <p:spPr>
          <a:xfrm rot="5400000">
            <a:off x="5232240" y="-5215320"/>
            <a:ext cx="1439640" cy="1187028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86" name="Title 1"/>
          <p:cNvSpPr/>
          <p:nvPr/>
        </p:nvSpPr>
        <p:spPr>
          <a:xfrm>
            <a:off x="63000" y="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of inmates receiving psychological car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124560" y="1416600"/>
            <a:ext cx="892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REGIONAL TARGET VERSUS PERFORMANCE FOR 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QUARTER (2020/202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8"/>
          <p:cNvSpPr/>
          <p:nvPr/>
        </p:nvSpPr>
        <p:spPr>
          <a:xfrm>
            <a:off x="228600" y="3048120"/>
            <a:ext cx="891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MANAGEMENT AR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Table 9"/>
          <p:cNvGraphicFramePr/>
          <p:nvPr/>
        </p:nvGraphicFramePr>
        <p:xfrm>
          <a:off x="228600" y="1808280"/>
          <a:ext cx="11658240" cy="106704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37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</a:tr>
              <a:tr h="375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a Zulu Na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90/30090= 1.3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53/22164 = 1.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90/30090= 1.3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93/218531 =1.3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90/30090= 1.3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46/22009 = 1.5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649/22009 = 7.4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0" name="Table 11"/>
          <p:cNvGraphicFramePr/>
          <p:nvPr/>
        </p:nvGraphicFramePr>
        <p:xfrm>
          <a:off x="228600" y="3581280"/>
          <a:ext cx="11658240" cy="261648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20/9930 = 1.2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4/7604 =0.4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20/9930 = 1.2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9/7389 = 0.3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20/9930 = 1.2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2/7163 = 0.4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20/9930 = 7.2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35/7163 = 3.2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mpa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0/4098 = 1.4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8/2875 = 1.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0/4098 = 1.4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7/2895 = 0.9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0/4098 = 1.4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5/2878 = 0.8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60/4098 = 8.7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44/2878 = 8.4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2407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1649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2407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162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2407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2052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2407 = 0.00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2052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Kokst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0/2106 = 2.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6/1537 = 4.2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0/2106 = 2.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5/1534 = 4.8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0/2106 = 2.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5/1605 = 3.4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60/2106 = 17.0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55/1605 = 22.1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: Top Corners Rounded 60"/>
          <p:cNvSpPr/>
          <p:nvPr/>
        </p:nvSpPr>
        <p:spPr>
          <a:xfrm rot="5400000">
            <a:off x="5207400" y="-5190480"/>
            <a:ext cx="1439640" cy="1182060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92" name="Title 1"/>
          <p:cNvSpPr/>
          <p:nvPr/>
        </p:nvSpPr>
        <p:spPr>
          <a:xfrm>
            <a:off x="63000" y="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of inmates receiving psychological car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8"/>
          <p:cNvSpPr/>
          <p:nvPr/>
        </p:nvSpPr>
        <p:spPr>
          <a:xfrm>
            <a:off x="228600" y="1752480"/>
            <a:ext cx="8915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MANAGEMENT AREA LEVEL (CONT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Table 11"/>
          <p:cNvGraphicFramePr/>
          <p:nvPr/>
        </p:nvGraphicFramePr>
        <p:xfrm>
          <a:off x="178920" y="2666880"/>
          <a:ext cx="11658240" cy="210708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0/2865 = 1.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0/2105 = 1.4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0/2865 = 1.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4/2045 = 1.6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0/2865 = 1.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8/1963 = 2.4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80/2865 = 6.2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78/1963 = 9.0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PMB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0/6262 = 1.4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8/4679 = 1.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0/6262 = 1.4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2/4614 = 1.7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0/6262 = 1.4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35/4548 = 2.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40/6262 = 8.6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45/4548 = 9.7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0/2422 = 1.2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7/1715 = 2.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0/2422 = 1.2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6/1762 = 2.6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0/2422 = 1.2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1/1800 = 2.8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80/2422 = 7.4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92/1800 = 10.6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: Top Corners Rounded 60"/>
          <p:cNvSpPr/>
          <p:nvPr/>
        </p:nvSpPr>
        <p:spPr>
          <a:xfrm rot="5400000">
            <a:off x="5577840" y="-5547960"/>
            <a:ext cx="1066320" cy="121622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96" name="TextBox 8"/>
          <p:cNvSpPr/>
          <p:nvPr/>
        </p:nvSpPr>
        <p:spPr>
          <a:xfrm>
            <a:off x="29520" y="1066680"/>
            <a:ext cx="11035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CORRECTIONAL CENTRE LEVEL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Table 11"/>
          <p:cNvGraphicFramePr/>
          <p:nvPr/>
        </p:nvGraphicFramePr>
        <p:xfrm>
          <a:off x="0" y="1713240"/>
          <a:ext cx="12191760" cy="5431680"/>
        </p:xfrm>
        <a:graphic>
          <a:graphicData uri="http://schemas.openxmlformats.org/drawingml/2006/table">
            <a:tbl>
              <a:tblPr/>
              <a:tblGrid>
                <a:gridCol w="1741680"/>
                <a:gridCol w="1741680"/>
                <a:gridCol w="1741680"/>
                <a:gridCol w="1741680"/>
                <a:gridCol w="1741680"/>
                <a:gridCol w="1741680"/>
                <a:gridCol w="1741680"/>
              </a:tblGrid>
              <a:tr h="706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 2020/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RTER 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S THAT CONTRIBUTED TOWARDS UNDER-ACHIEV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S FOR UND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 CAUS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CIATED RISK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08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20/9930 = 7.2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35/7163 = 3.2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arget for the quarter not met due to that limitation of the risk adjustment strategy. Size of the groups were limited to 8- 10 depending on the size of the ven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the provision of  fully fledged psychological care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90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60/4098 = 8.7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44/2878 = 8.4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mpa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get for the quarter not met due to that limitation of the risk addjustment strategy. Size of the groups were limited to 8- 10 depending on the size of the ven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the provision of  fully fledged psychological care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27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2407 = 0.00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2052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get for the quarter not met due to that limitation of the risk addjustment strategy. Size of the groups were limited to 8- 10 depending on the size of the ven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the provision of  fully fledged psychological care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52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60/2106 = 17.0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55/1605 = 22.1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Kokst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arget for the quarter not met due to that limitation of the risk adjustment strategy. Size of the groups were limited to 8- 10 depending on the size of the ven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the provision of  fully fledged psychological care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98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0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000" spc="-1" strike="noStrike">
                <a:solidFill>
                  <a:srgbClr val="ffffff"/>
                </a:solidFill>
                <a:latin typeface="Arial Black"/>
              </a:rPr>
              <a:t>Percentage of inmates receiving psychological car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: Top Corners Rounded 60"/>
          <p:cNvSpPr/>
          <p:nvPr/>
        </p:nvSpPr>
        <p:spPr>
          <a:xfrm rot="5400000">
            <a:off x="5384880" y="-5367600"/>
            <a:ext cx="1439640" cy="121748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00" name="TextBox 8"/>
          <p:cNvSpPr/>
          <p:nvPr/>
        </p:nvSpPr>
        <p:spPr>
          <a:xfrm>
            <a:off x="29520" y="1440000"/>
            <a:ext cx="11035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CORRECTIONAL CENTRE LEVEL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Table 11"/>
          <p:cNvGraphicFramePr/>
          <p:nvPr/>
        </p:nvGraphicFramePr>
        <p:xfrm>
          <a:off x="0" y="2086200"/>
          <a:ext cx="12191760" cy="4618800"/>
        </p:xfrm>
        <a:graphic>
          <a:graphicData uri="http://schemas.openxmlformats.org/drawingml/2006/table">
            <a:tbl>
              <a:tblPr/>
              <a:tblGrid>
                <a:gridCol w="1741680"/>
                <a:gridCol w="1741680"/>
                <a:gridCol w="1741680"/>
                <a:gridCol w="1741680"/>
                <a:gridCol w="1741680"/>
                <a:gridCol w="1741680"/>
                <a:gridCol w="1741680"/>
              </a:tblGrid>
              <a:tr h="70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 2020/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RTER 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S THAT CONTRIBUTED TOWARDS UNDER-ACHIEV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S FOR UND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 CAUS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CIATED RISK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432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80/2865 = 6.2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78/1963 = 9.0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get for the quarter not met due to that limitation of the risk addjustment strategy. Size of the groups were limited to 8- 10 depending on the size of the ven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the provision of  fully fledged psychological care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42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40/6262 = 8.6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45/4548 = 9.7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PMB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get for the quarter not met due to that limitation of the risk addjustment strategy. Size of the groups were limited to 8- 10 depending on the size of the ven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the provision of  fully fledged psychological care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42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80/2422 = 7.4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92/1800 = 10.6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arget for the quarter not met due to that limitation of the risk adjustment strategy. Size of the groups were limited to 8- 10 depending on the size of the ven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the provision of  fully fledged psychological care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02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of inmates receiving psychological car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: Top Corners Rounded 60"/>
          <p:cNvSpPr/>
          <p:nvPr/>
        </p:nvSpPr>
        <p:spPr>
          <a:xfrm rot="5400000">
            <a:off x="5232240" y="-5215320"/>
            <a:ext cx="1439640" cy="1187028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04" name="TextBox 8"/>
          <p:cNvSpPr/>
          <p:nvPr/>
        </p:nvSpPr>
        <p:spPr>
          <a:xfrm>
            <a:off x="-228600" y="1673640"/>
            <a:ext cx="1165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PROJECT PLAN TO ADDRESS UNDER PERFORMANCE MANAGEMENT 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Table 11"/>
          <p:cNvGraphicFramePr/>
          <p:nvPr/>
        </p:nvGraphicFramePr>
        <p:xfrm>
          <a:off x="216000" y="2298960"/>
          <a:ext cx="11670840" cy="5136840"/>
        </p:xfrm>
        <a:graphic>
          <a:graphicData uri="http://schemas.openxmlformats.org/drawingml/2006/table">
            <a:tbl>
              <a:tblPr/>
              <a:tblGrid>
                <a:gridCol w="1945080"/>
                <a:gridCol w="1945080"/>
                <a:gridCol w="1945080"/>
                <a:gridCol w="1945080"/>
                <a:gridCol w="1945080"/>
                <a:gridCol w="1945080"/>
              </a:tblGrid>
              <a:tr h="58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 /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</a:tr>
              <a:tr h="86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involve  more offenders in psychological care 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are involve in psychological care services as the Covid 19 Risk Adjusted Strategy Regulation are not relax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mpa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involve  more offenders in psychological care 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are involve in psychological care services as the Covid 19 Risk Adjusted Strategy Regulation are not relax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involve  more offenders in psychological care 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are involve in psychological care services as the Covid 19 Risk Adjusted Strategy Regulation are not relax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Kokst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involve  more offenders in psychological care 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Offenders are involve in psychological care services as the Covid 19 Risk Adjusted Strategy Regulation are not relax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06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LAN TO ADDRESS UNDER 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of inmates receiving psychological car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: Top Corners Rounded 60"/>
          <p:cNvSpPr/>
          <p:nvPr/>
        </p:nvSpPr>
        <p:spPr>
          <a:xfrm rot="5400000">
            <a:off x="5223960" y="-5166720"/>
            <a:ext cx="1439640" cy="118868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08" name="TextBox 8"/>
          <p:cNvSpPr/>
          <p:nvPr/>
        </p:nvSpPr>
        <p:spPr>
          <a:xfrm>
            <a:off x="29520" y="1440000"/>
            <a:ext cx="1170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PROJECT PLAN TO ADDRESS UNDER PERFORMANCE MANAGEMENT 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Table 11"/>
          <p:cNvGraphicFramePr/>
          <p:nvPr/>
        </p:nvGraphicFramePr>
        <p:xfrm>
          <a:off x="29520" y="2043000"/>
          <a:ext cx="11857320" cy="3976560"/>
        </p:xfrm>
        <a:graphic>
          <a:graphicData uri="http://schemas.openxmlformats.org/drawingml/2006/table">
            <a:tbl>
              <a:tblPr/>
              <a:tblGrid>
                <a:gridCol w="1976040"/>
                <a:gridCol w="1976040"/>
                <a:gridCol w="1976040"/>
                <a:gridCol w="1976040"/>
                <a:gridCol w="1976040"/>
                <a:gridCol w="1976040"/>
              </a:tblGrid>
              <a:tr h="73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 /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</a:tr>
              <a:tr h="1080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involve  more offenders in psychological care 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are involve in psychological care services as the Covid 19 Risk Adjusted Strategy Regulation are not relax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80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PMB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involve  more offenders in psychological care 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are involve in psychological care services as the Covid 19 Risk Adjusted Strategy Regulation are not relax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80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involve  more offenders in psychological care 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are involve in psychological care services as the Covid 19 Risk Adjusted Strategy Regulation are not relax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10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LAN TO ADDRESS UNDER 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000" spc="-1" strike="noStrike">
                <a:solidFill>
                  <a:srgbClr val="ffffff"/>
                </a:solidFill>
                <a:latin typeface="Arial Black"/>
              </a:rPr>
              <a:t>Percentage of inmates receiving psychological car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6"/>
          <p:cNvGrpSpPr/>
          <p:nvPr/>
        </p:nvGrpSpPr>
        <p:grpSpPr>
          <a:xfrm>
            <a:off x="65880" y="-21600"/>
            <a:ext cx="8391960" cy="6270120"/>
            <a:chOff x="65880" y="-21600"/>
            <a:chExt cx="8391960" cy="6270120"/>
          </a:xfrm>
        </p:grpSpPr>
        <p:sp>
          <p:nvSpPr>
            <p:cNvPr id="412" name="Rectangle: Top Corners Rounded 24"/>
            <p:cNvSpPr/>
            <p:nvPr/>
          </p:nvSpPr>
          <p:spPr>
            <a:xfrm rot="10800000">
              <a:off x="651600" y="-8280"/>
              <a:ext cx="7220520" cy="6256800"/>
            </a:xfrm>
            <a:prstGeom prst="round2SameRect">
              <a:avLst>
                <a:gd name="adj1" fmla="val 13687"/>
                <a:gd name="adj2" fmla="val 0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00cc99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Isosceles Triangle 3"/>
            <p:cNvSpPr/>
            <p:nvPr/>
          </p:nvSpPr>
          <p:spPr>
            <a:xfrm>
              <a:off x="7859880" y="-21600"/>
              <a:ext cx="597960" cy="1535400"/>
            </a:xfrm>
            <a:custGeom>
              <a:avLst/>
              <a:gdLst>
                <a:gd name="textAreaLeft" fmla="*/ 0 w 597960"/>
                <a:gd name="textAreaRight" fmla="*/ 598320 w 597960"/>
                <a:gd name="textAreaTop" fmla="*/ 0 h 1535400"/>
                <a:gd name="textAreaBottom" fmla="*/ 1535760 h 1535400"/>
              </a:gdLst>
              <a:ahLst/>
              <a:rect l="textAreaLeft" t="textAreaTop" r="textAreaRight" b="textAreaBottom"/>
              <a:pathLst>
                <a:path w="520700" h="1270000">
                  <a:moveTo>
                    <a:pt x="520700" y="1270000"/>
                  </a:moveTo>
                  <a:lnTo>
                    <a:pt x="0" y="0"/>
                  </a:lnTo>
                  <a:lnTo>
                    <a:pt x="12700" y="1270000"/>
                  </a:lnTo>
                  <a:lnTo>
                    <a:pt x="520700" y="1270000"/>
                  </a:lnTo>
                  <a:close/>
                </a:path>
              </a:pathLst>
            </a:custGeom>
            <a:solidFill>
              <a:srgbClr val="009900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72000" rIns="72000" tIns="72000" bIns="72000" anchor="t">
              <a:spAutoFit/>
            </a:bodyPr>
            <a:p>
              <a:pPr algn="ctr">
                <a:lnSpc>
                  <a:spcPct val="90000"/>
                </a:lnSpc>
                <a:spcBef>
                  <a:spcPts val="700"/>
                </a:spcBef>
              </a:pPr>
              <a:endParaRPr b="0" lang="en-ZA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Isosceles Triangle 3"/>
            <p:cNvSpPr/>
            <p:nvPr/>
          </p:nvSpPr>
          <p:spPr>
            <a:xfrm flipV="1" rot="10800000">
              <a:off x="65880" y="-9000"/>
              <a:ext cx="597960" cy="1535400"/>
            </a:xfrm>
            <a:custGeom>
              <a:avLst/>
              <a:gdLst>
                <a:gd name="textAreaLeft" fmla="*/ 0 w 597960"/>
                <a:gd name="textAreaRight" fmla="*/ 598320 w 597960"/>
                <a:gd name="textAreaTop" fmla="*/ -360 h 1535400"/>
                <a:gd name="textAreaBottom" fmla="*/ 1535400 h 1535400"/>
              </a:gdLst>
              <a:ahLst/>
              <a:rect l="textAreaLeft" t="textAreaTop" r="textAreaRight" b="textAreaBottom"/>
              <a:pathLst>
                <a:path w="520700" h="1270000">
                  <a:moveTo>
                    <a:pt x="520700" y="1270000"/>
                  </a:moveTo>
                  <a:lnTo>
                    <a:pt x="0" y="0"/>
                  </a:lnTo>
                  <a:lnTo>
                    <a:pt x="12700" y="1270000"/>
                  </a:lnTo>
                  <a:lnTo>
                    <a:pt x="520700" y="1270000"/>
                  </a:lnTo>
                  <a:close/>
                </a:path>
              </a:pathLst>
            </a:custGeom>
            <a:solidFill>
              <a:srgbClr val="009900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72000" rIns="72000" tIns="72000" bIns="72000" anchor="t">
              <a:spAutoFit/>
            </a:bodyPr>
            <a:p>
              <a:pPr algn="ctr">
                <a:lnSpc>
                  <a:spcPct val="90000"/>
                </a:lnSpc>
                <a:spcBef>
                  <a:spcPts val="700"/>
                </a:spcBef>
              </a:pPr>
              <a:endParaRPr b="0" lang="en-ZA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TextBox 1"/>
          <p:cNvSpPr/>
          <p:nvPr/>
        </p:nvSpPr>
        <p:spPr>
          <a:xfrm>
            <a:off x="838080" y="1088640"/>
            <a:ext cx="691056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ZA" sz="6600" spc="-1" strike="noStrike">
                <a:solidFill>
                  <a:srgbClr val="ffffff"/>
                </a:solidFill>
                <a:latin typeface="Arial Black"/>
              </a:rPr>
              <a:t>PROGRAM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ZA" sz="66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ZA" sz="6000" spc="-1" strike="noStrike">
                <a:solidFill>
                  <a:srgbClr val="ffffff"/>
                </a:solidFill>
                <a:latin typeface="Arial Black"/>
              </a:rPr>
              <a:t>C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: Top Corners Rounded 60"/>
          <p:cNvSpPr/>
          <p:nvPr/>
        </p:nvSpPr>
        <p:spPr>
          <a:xfrm rot="5400000">
            <a:off x="5278680" y="-5238720"/>
            <a:ext cx="1439640" cy="1187028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17" name="Title 1"/>
          <p:cNvSpPr/>
          <p:nvPr/>
        </p:nvSpPr>
        <p:spPr>
          <a:xfrm>
            <a:off x="63000" y="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000" spc="-1" strike="noStrike">
                <a:solidFill>
                  <a:schemeClr val="accent3"/>
                </a:solidFill>
                <a:latin typeface="Arial Black"/>
              </a:rPr>
              <a:t>Percentage of identified inmates who have tested for Corona virus Disease 2019 (COVID-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7"/>
          <p:cNvSpPr/>
          <p:nvPr/>
        </p:nvSpPr>
        <p:spPr>
          <a:xfrm>
            <a:off x="124560" y="1416600"/>
            <a:ext cx="892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REGIONAL TARGET VERSUS PERFORMANCE FOR 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QUARTER (2020/202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8"/>
          <p:cNvSpPr/>
          <p:nvPr/>
        </p:nvSpPr>
        <p:spPr>
          <a:xfrm>
            <a:off x="228600" y="3048120"/>
            <a:ext cx="891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MANAGEMENT AR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Table 9"/>
          <p:cNvGraphicFramePr/>
          <p:nvPr/>
        </p:nvGraphicFramePr>
        <p:xfrm>
          <a:off x="228600" y="1808280"/>
          <a:ext cx="11658240" cy="106704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37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</a:tr>
              <a:tr h="375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a Zulu Na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2/94 = 87.23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49/498 = 29.92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/8 = 75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73/736 = 50.68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1" name="Table 11"/>
          <p:cNvGraphicFramePr/>
          <p:nvPr/>
        </p:nvGraphicFramePr>
        <p:xfrm>
          <a:off x="228600" y="3581280"/>
          <a:ext cx="11658240" cy="261648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12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7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2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20/141 = 85.11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mpa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/9 = 1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5.252 = 29.76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7/264 = 32.9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/9 = 1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2/32 = 1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/4 = 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5/45 =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Kokst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/8 = 1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3/13 =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/1 =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2/22 =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0" y="-153720"/>
            <a:ext cx="184320" cy="30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ZA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0" y="-153720"/>
            <a:ext cx="184320" cy="30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ZA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0" y="-153720"/>
            <a:ext cx="184320" cy="30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ZA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-153720"/>
            <a:ext cx="184320" cy="30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ZA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8" name="Table 4"/>
          <p:cNvGraphicFramePr/>
          <p:nvPr/>
        </p:nvGraphicFramePr>
        <p:xfrm>
          <a:off x="609480" y="1295280"/>
          <a:ext cx="10972440" cy="1270440"/>
        </p:xfrm>
        <a:graphic>
          <a:graphicData uri="http://schemas.openxmlformats.org/drawingml/2006/table">
            <a:tbl>
              <a:tblPr/>
              <a:tblGrid>
                <a:gridCol w="2940120"/>
                <a:gridCol w="2259000"/>
                <a:gridCol w="2760840"/>
                <a:gridCol w="3012120"/>
              </a:tblGrid>
              <a:tr h="783000">
                <a:tc>
                  <a:txBody>
                    <a:bodyPr lIns="121680" rIns="121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No of Mid term Targets per 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121680" rIns="121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hie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121680" rIns="121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chie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121680" rIns="121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Z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measured annually /per academic 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87440">
                <a:tc>
                  <a:txBody>
                    <a:bodyPr lIns="121680" rIns="121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121680" rIns="121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121680" rIns="121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21680" rIns="121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27960" y="609480"/>
            <a:ext cx="11660400" cy="66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6760" indent="0" algn="ctr">
              <a:lnSpc>
                <a:spcPct val="90000"/>
              </a:lnSpc>
              <a:spcBef>
                <a:spcPts val="2160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id-term Performance Report on  Performance indicators 2019/2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"/>
          <p:cNvSpPr/>
          <p:nvPr/>
        </p:nvSpPr>
        <p:spPr>
          <a:xfrm>
            <a:off x="4885560" y="3275280"/>
            <a:ext cx="1813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81"/>
              </a:spcBef>
            </a:pPr>
            <a:r>
              <a:rPr b="1" lang="en-US" sz="1400" spc="-1" strike="noStrike">
                <a:solidFill>
                  <a:schemeClr val="lt1"/>
                </a:solidFill>
                <a:latin typeface="Arial"/>
              </a:rPr>
              <a:t>Total Nor of targ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4885560" y="3275280"/>
            <a:ext cx="1813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81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tal Nor of targ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Chart 15"/>
          <p:cNvGraphicFramePr/>
          <p:nvPr/>
        </p:nvGraphicFramePr>
        <p:xfrm>
          <a:off x="609480" y="2666880"/>
          <a:ext cx="10769400" cy="3733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: Top Corners Rounded 60"/>
          <p:cNvSpPr/>
          <p:nvPr/>
        </p:nvSpPr>
        <p:spPr>
          <a:xfrm rot="5400000">
            <a:off x="5190840" y="-5190480"/>
            <a:ext cx="1439640" cy="1182060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3" name="Title 1"/>
          <p:cNvSpPr/>
          <p:nvPr/>
        </p:nvSpPr>
        <p:spPr>
          <a:xfrm>
            <a:off x="63000" y="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chemeClr val="accent3"/>
                </a:solidFill>
                <a:latin typeface="Arial Black"/>
              </a:rPr>
              <a:t>Percentage of identified inmates who have tested for Corona virus Disease 2019 (COVID-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8"/>
          <p:cNvSpPr/>
          <p:nvPr/>
        </p:nvSpPr>
        <p:spPr>
          <a:xfrm>
            <a:off x="228600" y="1752480"/>
            <a:ext cx="8915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MANAGEMENT AREA LEVEL (CONT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Table 11"/>
          <p:cNvGraphicFramePr/>
          <p:nvPr/>
        </p:nvGraphicFramePr>
        <p:xfrm>
          <a:off x="178920" y="2666880"/>
          <a:ext cx="11658240" cy="210708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/1 = 1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5/35 = 1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 / 0 = 1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6/36 = 1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PMB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5/55 = 1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9/180 = 21.67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 / 1 = 1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5/236 = 40.25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 / 5  = 1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 / 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/5 = 1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: Top Corners Rounded 60"/>
          <p:cNvSpPr/>
          <p:nvPr/>
        </p:nvSpPr>
        <p:spPr>
          <a:xfrm rot="5400000">
            <a:off x="5577840" y="-5547960"/>
            <a:ext cx="1066320" cy="121622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7" name="TextBox 8"/>
          <p:cNvSpPr/>
          <p:nvPr/>
        </p:nvSpPr>
        <p:spPr>
          <a:xfrm>
            <a:off x="29520" y="1066680"/>
            <a:ext cx="11035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CORRECTIONAL CENTRE LEVEL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Table 11"/>
          <p:cNvGraphicFramePr/>
          <p:nvPr/>
        </p:nvGraphicFramePr>
        <p:xfrm>
          <a:off x="0" y="1713240"/>
          <a:ext cx="12191760" cy="7317000"/>
        </p:xfrm>
        <a:graphic>
          <a:graphicData uri="http://schemas.openxmlformats.org/drawingml/2006/table">
            <a:tbl>
              <a:tblPr/>
              <a:tblGrid>
                <a:gridCol w="1741680"/>
                <a:gridCol w="1741680"/>
                <a:gridCol w="1741680"/>
                <a:gridCol w="1741680"/>
                <a:gridCol w="1741680"/>
                <a:gridCol w="1741680"/>
                <a:gridCol w="1741680"/>
              </a:tblGrid>
              <a:tr h="706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 2020/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RTER 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S THAT CONTRIBUTED TOWARDS UNDER-ACHIEV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S FOR UND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 CAUS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CIATED RISK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08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20/141 = 85.11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arget for the quarter not met due to the fact that identified inmates did not meet the set KZN DoH criteria for testing Covid -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he surge of infection within Correctional facilities  causing more  com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Human capital and  other  Resources will  be stra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nadequate service  provision and service deliver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46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7/264 = 32.9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mpa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arget for the quarter not met due to the fact that identified inmates did not meet the set KZN DoH criteria for testing Covid -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he surge of infection within Correctional facilities  causing more  com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Human capital and  other  Resources will  be stra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nadequate service  provision and service 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27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5/45 =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arget for the quarter not met due to the fact that identified inmates did not meet the set KZN DoH criteria for testing Covid -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he surge of infection within Correctional facilities  causing more  com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Human capital and  other  Resources will  be stra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nadequate service  provision and service 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52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2/22 =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Kokst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arget for the quarter not met due to the fact that identified inmates did not meet the set KZN DoH criteria for testing Covid -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he surge of infection within Correctional facilities  causing more  com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Human capital and  other  Resources will  be stra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nadequate service  provision and service 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29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0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000" spc="-1" strike="noStrike">
                <a:solidFill>
                  <a:srgbClr val="ffffff"/>
                </a:solidFill>
                <a:latin typeface="Arial Black"/>
              </a:rPr>
              <a:t>Percentage of identified inmates who have tested for Corona virus Disease (Covid – 1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: Top Corners Rounded 60"/>
          <p:cNvSpPr/>
          <p:nvPr/>
        </p:nvSpPr>
        <p:spPr>
          <a:xfrm rot="5400000">
            <a:off x="5384880" y="-5367600"/>
            <a:ext cx="1439640" cy="121748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1" name="TextBox 8"/>
          <p:cNvSpPr/>
          <p:nvPr/>
        </p:nvSpPr>
        <p:spPr>
          <a:xfrm>
            <a:off x="29520" y="1440000"/>
            <a:ext cx="12162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CORRECTIONAL CENTRE LEVEL MANAGEMENT AREA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Table 11"/>
          <p:cNvGraphicFramePr/>
          <p:nvPr/>
        </p:nvGraphicFramePr>
        <p:xfrm>
          <a:off x="0" y="2086200"/>
          <a:ext cx="12191760" cy="5544720"/>
        </p:xfrm>
        <a:graphic>
          <a:graphicData uri="http://schemas.openxmlformats.org/drawingml/2006/table">
            <a:tbl>
              <a:tblPr/>
              <a:tblGrid>
                <a:gridCol w="1741680"/>
                <a:gridCol w="1741680"/>
                <a:gridCol w="1741680"/>
                <a:gridCol w="1741680"/>
                <a:gridCol w="1741680"/>
                <a:gridCol w="1741680"/>
                <a:gridCol w="1741680"/>
              </a:tblGrid>
              <a:tr h="70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 2020/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RTER 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S THAT CONTRIBUTED TOWARDS UNDER-ACHIEV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S FOR UND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 CAUS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CIATED RISK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432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6/36 = 1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arget for the quarter not met due to the fact that identified inmates did not meet the set KZN DoH criteria for testing Covid -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he surge of infection within Correctional facilities  causing more  com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Human capital and  other  Resources will  be stra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nadequate service  provision and service 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42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5/236 = 40.25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PMB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arget for the quarter not met due to the fact that identified inmates did not meet the set KZN DoH criteria for testing Covid -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he surge of infection within Correctional facilities  causing more  com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Human capital and  other  Resources will  be stra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nadequate service  provision and service 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42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/5 = 1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arget for the quarter not met due to the fact that identified inmates did not meet the set KZN DoH criteria for testing Covid -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he surge of infection within Correctional facilities  causing more  com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Human capital and  other  Resources will  be stra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nadequate service  provision and service 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33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chemeClr val="accent3"/>
                </a:solidFill>
                <a:latin typeface="Arial Black"/>
              </a:rPr>
              <a:t>Percentage of identified inmates who have tested for Corona virus Disease 2019 (COVID-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: Top Corners Rounded 60"/>
          <p:cNvSpPr/>
          <p:nvPr/>
        </p:nvSpPr>
        <p:spPr>
          <a:xfrm rot="5400000">
            <a:off x="5232240" y="-5215320"/>
            <a:ext cx="1439640" cy="1187028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5" name="TextBox 8"/>
          <p:cNvSpPr/>
          <p:nvPr/>
        </p:nvSpPr>
        <p:spPr>
          <a:xfrm>
            <a:off x="29520" y="1440000"/>
            <a:ext cx="1185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PROJECT PLAN TO ADDRESS UNDER PERFORMANCE MANAGEMENT 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Table 11"/>
          <p:cNvGraphicFramePr/>
          <p:nvPr/>
        </p:nvGraphicFramePr>
        <p:xfrm>
          <a:off x="0" y="1809360"/>
          <a:ext cx="11886840" cy="565524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981080"/>
                <a:gridCol w="1981080"/>
                <a:gridCol w="1981080"/>
                <a:gridCol w="1981080"/>
              </a:tblGrid>
              <a:tr h="600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 /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</a:tr>
              <a:tr h="1060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conduct awareness raising sessions for inmates and to identify suspected inmates for tes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, and Head of Cent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wareness raising is continued, inmates are identified and tested in line with the DoH Covid -19 protocols and the departmental Strategic Plan for  Covid - 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53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mpa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conduct awareness raising sessions for inmates and to identify suspected inmates for tes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, and Head of Cent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wareness raising is continued, inmates are identified and tested in line with the DoH Covid -19 protocols and the departmental Strategic Plan for  Covid - 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53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conduct awareness raising sessions for inmates and to identify suspected inmates for tes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, and Head of Cent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wareness raising is continued, inmates are identified and tested in line with the DoH Covid -19 protocols and the departmental Strategic Plan for  Covid - 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27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Kokst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conduct awareness raising sessions for inmates and to identify suspected inmates for tes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, and Head of Cent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wareness raising is continued, inmates are identified and tested in line with the DoH Covid -19 protocols and the departmental Strategic Plan for  Covid - 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37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LAN TO ADDRESS UNDER 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chemeClr val="accent3"/>
                </a:solidFill>
                <a:latin typeface="Arial Black"/>
              </a:rPr>
              <a:t>Percentage of identified inmates who have tested for Corona virus Disease 2019 (COVID-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: Top Corners Rounded 60"/>
          <p:cNvSpPr/>
          <p:nvPr/>
        </p:nvSpPr>
        <p:spPr>
          <a:xfrm rot="5400000">
            <a:off x="5223960" y="-5166720"/>
            <a:ext cx="1439640" cy="118868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9" name="TextBox 8"/>
          <p:cNvSpPr/>
          <p:nvPr/>
        </p:nvSpPr>
        <p:spPr>
          <a:xfrm>
            <a:off x="29520" y="1440000"/>
            <a:ext cx="1170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PROJECT PLAN TO ADDRESS UNDER PERFORMANCE MANAGEMENT 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Table 11"/>
          <p:cNvGraphicFramePr/>
          <p:nvPr/>
        </p:nvGraphicFramePr>
        <p:xfrm>
          <a:off x="29520" y="2043000"/>
          <a:ext cx="11857320" cy="4525560"/>
        </p:xfrm>
        <a:graphic>
          <a:graphicData uri="http://schemas.openxmlformats.org/drawingml/2006/table">
            <a:tbl>
              <a:tblPr/>
              <a:tblGrid>
                <a:gridCol w="1976040"/>
                <a:gridCol w="1976040"/>
                <a:gridCol w="1976040"/>
                <a:gridCol w="1976040"/>
                <a:gridCol w="1976040"/>
                <a:gridCol w="1976040"/>
              </a:tblGrid>
              <a:tr h="73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 /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</a:tr>
              <a:tr h="1080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conduct awareness raising sessions for inmates and to identify suspected inmates for tes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, and Head of Cent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wareness raising is continued, inmates are identified and tested in line with the DoH Covid -19 protocols and the departmental Strategic Plan for  Covid - 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80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PMB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conduct awareness raising sessions for inmates and to identify suspected inmates for tes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, and Head of Cent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wareness raising is continued, inmates are identified and tested in line with the DoH Covid -19 protocols and the departmental Strategic Plan for  Covid - 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80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conduct awareness raising sessions for inmates and to identify suspected inmates for tes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, and Head of Cent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wareness raising is continued, inmates are identified and tested in line with the DoH Covid -19 protocols and the departmental Strategic Plan for  Covid - 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41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LAN TO ADDRESS UNDER 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000" spc="-1" strike="noStrike">
                <a:solidFill>
                  <a:schemeClr val="accent3"/>
                </a:solidFill>
                <a:latin typeface="Arial Black"/>
              </a:rPr>
              <a:t>Percentage of identified inmates who have tested for Corona virus Disease 2019 (COVID-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6"/>
          <p:cNvGrpSpPr/>
          <p:nvPr/>
        </p:nvGrpSpPr>
        <p:grpSpPr>
          <a:xfrm>
            <a:off x="65880" y="-21600"/>
            <a:ext cx="8391960" cy="6270120"/>
            <a:chOff x="65880" y="-21600"/>
            <a:chExt cx="8391960" cy="6270120"/>
          </a:xfrm>
        </p:grpSpPr>
        <p:sp>
          <p:nvSpPr>
            <p:cNvPr id="443" name="Rectangle: Top Corners Rounded 24"/>
            <p:cNvSpPr/>
            <p:nvPr/>
          </p:nvSpPr>
          <p:spPr>
            <a:xfrm rot="10800000">
              <a:off x="651600" y="-8280"/>
              <a:ext cx="7220520" cy="6256800"/>
            </a:xfrm>
            <a:prstGeom prst="round2SameRect">
              <a:avLst>
                <a:gd name="adj1" fmla="val 13687"/>
                <a:gd name="adj2" fmla="val 0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00cc99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Isosceles Triangle 3"/>
            <p:cNvSpPr/>
            <p:nvPr/>
          </p:nvSpPr>
          <p:spPr>
            <a:xfrm>
              <a:off x="7859880" y="-21600"/>
              <a:ext cx="597960" cy="1535400"/>
            </a:xfrm>
            <a:custGeom>
              <a:avLst/>
              <a:gdLst>
                <a:gd name="textAreaLeft" fmla="*/ 0 w 597960"/>
                <a:gd name="textAreaRight" fmla="*/ 598320 w 597960"/>
                <a:gd name="textAreaTop" fmla="*/ 0 h 1535400"/>
                <a:gd name="textAreaBottom" fmla="*/ 1535760 h 1535400"/>
              </a:gdLst>
              <a:ahLst/>
              <a:rect l="textAreaLeft" t="textAreaTop" r="textAreaRight" b="textAreaBottom"/>
              <a:pathLst>
                <a:path w="520700" h="1270000">
                  <a:moveTo>
                    <a:pt x="520700" y="1270000"/>
                  </a:moveTo>
                  <a:lnTo>
                    <a:pt x="0" y="0"/>
                  </a:lnTo>
                  <a:lnTo>
                    <a:pt x="12700" y="1270000"/>
                  </a:lnTo>
                  <a:lnTo>
                    <a:pt x="520700" y="1270000"/>
                  </a:lnTo>
                  <a:close/>
                </a:path>
              </a:pathLst>
            </a:custGeom>
            <a:solidFill>
              <a:srgbClr val="009900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72000" rIns="72000" tIns="72000" bIns="72000" anchor="t">
              <a:spAutoFit/>
            </a:bodyPr>
            <a:p>
              <a:pPr algn="ctr">
                <a:lnSpc>
                  <a:spcPct val="90000"/>
                </a:lnSpc>
                <a:spcBef>
                  <a:spcPts val="700"/>
                </a:spcBef>
              </a:pPr>
              <a:endParaRPr b="0" lang="en-ZA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Isosceles Triangle 3"/>
            <p:cNvSpPr/>
            <p:nvPr/>
          </p:nvSpPr>
          <p:spPr>
            <a:xfrm flipV="1" rot="10800000">
              <a:off x="65880" y="-9000"/>
              <a:ext cx="597960" cy="1535400"/>
            </a:xfrm>
            <a:custGeom>
              <a:avLst/>
              <a:gdLst>
                <a:gd name="textAreaLeft" fmla="*/ 0 w 597960"/>
                <a:gd name="textAreaRight" fmla="*/ 598320 w 597960"/>
                <a:gd name="textAreaTop" fmla="*/ -360 h 1535400"/>
                <a:gd name="textAreaBottom" fmla="*/ 1535400 h 1535400"/>
              </a:gdLst>
              <a:ahLst/>
              <a:rect l="textAreaLeft" t="textAreaTop" r="textAreaRight" b="textAreaBottom"/>
              <a:pathLst>
                <a:path w="520700" h="1270000">
                  <a:moveTo>
                    <a:pt x="520700" y="1270000"/>
                  </a:moveTo>
                  <a:lnTo>
                    <a:pt x="0" y="0"/>
                  </a:lnTo>
                  <a:lnTo>
                    <a:pt x="12700" y="1270000"/>
                  </a:lnTo>
                  <a:lnTo>
                    <a:pt x="520700" y="1270000"/>
                  </a:lnTo>
                  <a:close/>
                </a:path>
              </a:pathLst>
            </a:custGeom>
            <a:solidFill>
              <a:srgbClr val="009900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72000" rIns="72000" tIns="72000" bIns="72000" anchor="t">
              <a:spAutoFit/>
            </a:bodyPr>
            <a:p>
              <a:pPr algn="ctr">
                <a:lnSpc>
                  <a:spcPct val="90000"/>
                </a:lnSpc>
                <a:spcBef>
                  <a:spcPts val="700"/>
                </a:spcBef>
              </a:pPr>
              <a:endParaRPr b="0" lang="en-ZA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TextBox 1"/>
          <p:cNvSpPr/>
          <p:nvPr/>
        </p:nvSpPr>
        <p:spPr>
          <a:xfrm>
            <a:off x="651600" y="1088640"/>
            <a:ext cx="709740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ZA" sz="6600" spc="-1" strike="noStrike">
                <a:solidFill>
                  <a:srgbClr val="ffffff"/>
                </a:solidFill>
                <a:latin typeface="Arial Black"/>
              </a:rPr>
              <a:t>PROGRAMME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ZA" sz="6000" spc="-1" strike="noStrike">
                <a:solidFill>
                  <a:srgbClr val="ffffff"/>
                </a:solidFill>
                <a:latin typeface="Arial Black"/>
              </a:rPr>
              <a:t>SOCIAL REINTEG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: Top Corners Rounded 60"/>
          <p:cNvSpPr/>
          <p:nvPr/>
        </p:nvSpPr>
        <p:spPr>
          <a:xfrm rot="5400000">
            <a:off x="5232240" y="-5215320"/>
            <a:ext cx="1439640" cy="1187028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48" name="Title 1"/>
          <p:cNvSpPr/>
          <p:nvPr/>
        </p:nvSpPr>
        <p:spPr>
          <a:xfrm>
            <a:off x="63000" y="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'Percentage increase of victims participating in Restorative Justice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7"/>
          <p:cNvSpPr/>
          <p:nvPr/>
        </p:nvSpPr>
        <p:spPr>
          <a:xfrm>
            <a:off x="124560" y="1416600"/>
            <a:ext cx="892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REGIONAL TARGET VERSUS PERFORMANCE FOR 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ARTER (2020/202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8"/>
          <p:cNvSpPr/>
          <p:nvPr/>
        </p:nvSpPr>
        <p:spPr>
          <a:xfrm>
            <a:off x="228600" y="3048120"/>
            <a:ext cx="891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MANAGEMENT AR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Table 9"/>
          <p:cNvGraphicFramePr/>
          <p:nvPr/>
        </p:nvGraphicFramePr>
        <p:xfrm>
          <a:off x="228600" y="1808280"/>
          <a:ext cx="11658240" cy="106704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37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</a:tr>
              <a:tr h="375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a Zulu Na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(-1 327/1 621)=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-81.8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2" name="Table 11"/>
          <p:cNvGraphicFramePr/>
          <p:nvPr/>
        </p:nvGraphicFramePr>
        <p:xfrm>
          <a:off x="228600" y="3581280"/>
          <a:ext cx="11658240" cy="261648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mpa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Kokst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: Top Corners Rounded 60"/>
          <p:cNvSpPr/>
          <p:nvPr/>
        </p:nvSpPr>
        <p:spPr>
          <a:xfrm rot="5400000">
            <a:off x="5207400" y="-5190480"/>
            <a:ext cx="1439640" cy="1182060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4" name="Title 1"/>
          <p:cNvSpPr/>
          <p:nvPr/>
        </p:nvSpPr>
        <p:spPr>
          <a:xfrm>
            <a:off x="63000" y="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'Percentage increase of victims participating in Restorative Justice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8"/>
          <p:cNvSpPr/>
          <p:nvPr/>
        </p:nvSpPr>
        <p:spPr>
          <a:xfrm>
            <a:off x="228600" y="1752480"/>
            <a:ext cx="8915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MANAGEMENT AREA LEVEL (CONT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Table 11"/>
          <p:cNvGraphicFramePr/>
          <p:nvPr/>
        </p:nvGraphicFramePr>
        <p:xfrm>
          <a:off x="178920" y="2666880"/>
          <a:ext cx="11658240" cy="210708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PMB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: Top Corners Rounded 60"/>
          <p:cNvSpPr/>
          <p:nvPr/>
        </p:nvSpPr>
        <p:spPr>
          <a:xfrm rot="5400000">
            <a:off x="5577840" y="-5547960"/>
            <a:ext cx="1066320" cy="121622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8" name="TextBox 8"/>
          <p:cNvSpPr/>
          <p:nvPr/>
        </p:nvSpPr>
        <p:spPr>
          <a:xfrm>
            <a:off x="29520" y="1066680"/>
            <a:ext cx="11035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CORRECTIONAL CENTRE LEVEL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Table 11"/>
          <p:cNvGraphicFramePr/>
          <p:nvPr/>
        </p:nvGraphicFramePr>
        <p:xfrm>
          <a:off x="0" y="1789200"/>
          <a:ext cx="12191760" cy="6079680"/>
        </p:xfrm>
        <a:graphic>
          <a:graphicData uri="http://schemas.openxmlformats.org/drawingml/2006/table">
            <a:tbl>
              <a:tblPr/>
              <a:tblGrid>
                <a:gridCol w="1741680"/>
                <a:gridCol w="1741680"/>
                <a:gridCol w="1741680"/>
                <a:gridCol w="1741680"/>
                <a:gridCol w="1741680"/>
                <a:gridCol w="1741680"/>
                <a:gridCol w="1741680"/>
              </a:tblGrid>
              <a:tr h="706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 2020/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RTER 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S THAT CONTRIBUTED TOWARDS UNDER-ACHIEV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S FOR UND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 CAUS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CIATED RISK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443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/0 = 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/0 = 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 Programme suspended due to Covid 19 Risk Adjusted Strategy (Suspension of visits to Correctional Cen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uspension of Restorative Justice Programme due to Covid 19 Risk Adjusted Strategy (Suspension of visits to Correctional Cen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oal  of effectively and efficiently reintegrating offenders in to communities  not realised and  lack of meaningful involvement of  victims  in retorative Justice  Program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52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/0 = 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/0 = 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ange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 Programme suspended due to Covid 19 Risk Adjusted Strategy (Suspension of visits to Correctional Cen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uspension of Restorative Justice Programme due to Covid 19 Risk Adjusted Strategy (Suspension of visits to Correctional Cen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oal  of effectively and efficiently reintegrating offenders in to communities  not realized and  lack of meaningful involvement of  victims  in restorative Justice  Program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52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/0 = 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0= 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enco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 Programme suspended due to Covid 19 Risk Adjusted Strategy (Suspension of visits to Correctional Cen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uspension of Restorative Justice Programme due to Covid 19 Risk Adjusted Strategy (Suspension of visits to Correctional Cen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oal  of effectively and efficiently reintegrating offenders in to communities  not realized and  lack of meaningful involvement of  victims  in restorative Justice  Program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52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/0 = 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/0 = 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ominator to be inclu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kst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 Programme suspended due to Covid 19 Risk Adjusted Strategy (Suspension of visits to Correctional Cen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uspension of Restorative Justice Programme due to Covid 19 Risk Adjusted Strategy (Suspension of visits to Correctional Cen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oal  of effectively and efficiently reintegrating offenders in to communities  not realized and  lack of meaningful involvement of  victims  in restorative Justice  Program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60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0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000" spc="-1" strike="noStrike">
                <a:solidFill>
                  <a:srgbClr val="ffffff"/>
                </a:solidFill>
                <a:latin typeface="Arial Black"/>
              </a:rPr>
              <a:t>'Percentage increase of victims participating in Restorative Justice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: Top Corners Rounded 60"/>
          <p:cNvSpPr/>
          <p:nvPr/>
        </p:nvSpPr>
        <p:spPr>
          <a:xfrm rot="5400000">
            <a:off x="5391000" y="-5304240"/>
            <a:ext cx="1439640" cy="121622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62" name="TextBox 8"/>
          <p:cNvSpPr/>
          <p:nvPr/>
        </p:nvSpPr>
        <p:spPr>
          <a:xfrm>
            <a:off x="29520" y="1440000"/>
            <a:ext cx="11035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CORRECTIONAL CENTRE LEVEL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Table 11"/>
          <p:cNvGraphicFramePr/>
          <p:nvPr/>
        </p:nvGraphicFramePr>
        <p:xfrm>
          <a:off x="0" y="2086200"/>
          <a:ext cx="12191760" cy="5496120"/>
        </p:xfrm>
        <a:graphic>
          <a:graphicData uri="http://schemas.openxmlformats.org/drawingml/2006/table">
            <a:tbl>
              <a:tblPr/>
              <a:tblGrid>
                <a:gridCol w="1741680"/>
                <a:gridCol w="1741680"/>
                <a:gridCol w="1741680"/>
                <a:gridCol w="1741680"/>
                <a:gridCol w="1741680"/>
                <a:gridCol w="1741680"/>
                <a:gridCol w="1741680"/>
              </a:tblGrid>
              <a:tr h="70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 2020/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RTER 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S THAT CONTRIBUTED TOWARDS UNDER-ACHIEV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S FOR UND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 CAUS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CIATED RISK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432440">
                <a:tc>
                  <a:txBody>
                    <a:bodyPr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</a:pPr>
                      <a:r>
                        <a:rPr b="0" lang="en-Z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/0 = 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0 = 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 Programme suspended due to Covid 19 Risk Adjusted Strategy (Suspension of visits to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uspension of Restorative Justice Programme due to Covid 19 Risk Adjusted Strategy (Suspension of visits to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oal  of effectively and efficiently reintegrating offenders in to communities  not realized and  lack of meaningful involvement of  victims  in restorative Justice  Program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4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/0 = 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/0 =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Bu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 Programme suspended due to Covid 19 Risk Adjusted Strategy (Suspension of visits to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uspension of Restorative Justice Programme due to Covid 19 Risk Adjusted Strategy (Suspension of visits to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oal  of effectively and efficiently reintegrating offenders in to communities  not realized and  lack of meaningful involvement of  victims  in restorative Justice  Program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4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/0 = 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0 = 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 Programme suspended due to Covid 19 Risk Adjusted Strategy (Suspension of visits to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uspension of Restorative Justice Programme due to Covid 19 Risk Adjusted Strategy (Suspension of visits to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oal  of effectively and efficiently reintegrating offenders in to communities  not realized and  lack of meaningful involvement of  victims  in restorative Justice  Program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64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'Percentage increase of victims participating in Restorative Justice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6"/>
          <p:cNvGrpSpPr/>
          <p:nvPr/>
        </p:nvGrpSpPr>
        <p:grpSpPr>
          <a:xfrm>
            <a:off x="65880" y="-21600"/>
            <a:ext cx="8391960" cy="6270120"/>
            <a:chOff x="65880" y="-21600"/>
            <a:chExt cx="8391960" cy="6270120"/>
          </a:xfrm>
        </p:grpSpPr>
        <p:sp>
          <p:nvSpPr>
            <p:cNvPr id="306" name="Rectangle: Top Corners Rounded 24"/>
            <p:cNvSpPr/>
            <p:nvPr/>
          </p:nvSpPr>
          <p:spPr>
            <a:xfrm rot="10800000">
              <a:off x="651600" y="-8280"/>
              <a:ext cx="7220520" cy="6256800"/>
            </a:xfrm>
            <a:prstGeom prst="round2SameRect">
              <a:avLst>
                <a:gd name="adj1" fmla="val 13687"/>
                <a:gd name="adj2" fmla="val 0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00cc99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Isosceles Triangle 3"/>
            <p:cNvSpPr/>
            <p:nvPr/>
          </p:nvSpPr>
          <p:spPr>
            <a:xfrm>
              <a:off x="7859880" y="-21600"/>
              <a:ext cx="597960" cy="1535400"/>
            </a:xfrm>
            <a:custGeom>
              <a:avLst/>
              <a:gdLst>
                <a:gd name="textAreaLeft" fmla="*/ 0 w 597960"/>
                <a:gd name="textAreaRight" fmla="*/ 598320 w 597960"/>
                <a:gd name="textAreaTop" fmla="*/ 0 h 1535400"/>
                <a:gd name="textAreaBottom" fmla="*/ 1535760 h 1535400"/>
              </a:gdLst>
              <a:ahLst/>
              <a:rect l="textAreaLeft" t="textAreaTop" r="textAreaRight" b="textAreaBottom"/>
              <a:pathLst>
                <a:path w="520700" h="1270000">
                  <a:moveTo>
                    <a:pt x="520700" y="1270000"/>
                  </a:moveTo>
                  <a:lnTo>
                    <a:pt x="0" y="0"/>
                  </a:lnTo>
                  <a:lnTo>
                    <a:pt x="12700" y="1270000"/>
                  </a:lnTo>
                  <a:lnTo>
                    <a:pt x="520700" y="1270000"/>
                  </a:lnTo>
                  <a:close/>
                </a:path>
              </a:pathLst>
            </a:custGeom>
            <a:solidFill>
              <a:srgbClr val="009900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72000" rIns="72000" tIns="72000" bIns="72000" anchor="t">
              <a:spAutoFit/>
            </a:bodyPr>
            <a:p>
              <a:pPr algn="ctr">
                <a:lnSpc>
                  <a:spcPct val="90000"/>
                </a:lnSpc>
                <a:spcBef>
                  <a:spcPts val="700"/>
                </a:spcBef>
              </a:pPr>
              <a:endParaRPr b="0" lang="en-ZA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Isosceles Triangle 3"/>
            <p:cNvSpPr/>
            <p:nvPr/>
          </p:nvSpPr>
          <p:spPr>
            <a:xfrm flipV="1" rot="10800000">
              <a:off x="65880" y="-9000"/>
              <a:ext cx="597960" cy="1535400"/>
            </a:xfrm>
            <a:custGeom>
              <a:avLst/>
              <a:gdLst>
                <a:gd name="textAreaLeft" fmla="*/ 0 w 597960"/>
                <a:gd name="textAreaRight" fmla="*/ 598320 w 597960"/>
                <a:gd name="textAreaTop" fmla="*/ -360 h 1535400"/>
                <a:gd name="textAreaBottom" fmla="*/ 1535400 h 1535400"/>
              </a:gdLst>
              <a:ahLst/>
              <a:rect l="textAreaLeft" t="textAreaTop" r="textAreaRight" b="textAreaBottom"/>
              <a:pathLst>
                <a:path w="520700" h="1270000">
                  <a:moveTo>
                    <a:pt x="520700" y="1270000"/>
                  </a:moveTo>
                  <a:lnTo>
                    <a:pt x="0" y="0"/>
                  </a:lnTo>
                  <a:lnTo>
                    <a:pt x="12700" y="1270000"/>
                  </a:lnTo>
                  <a:lnTo>
                    <a:pt x="520700" y="1270000"/>
                  </a:lnTo>
                  <a:close/>
                </a:path>
              </a:pathLst>
            </a:custGeom>
            <a:solidFill>
              <a:srgbClr val="009900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72000" rIns="72000" tIns="72000" bIns="72000" anchor="t">
              <a:spAutoFit/>
            </a:bodyPr>
            <a:p>
              <a:pPr algn="ctr">
                <a:lnSpc>
                  <a:spcPct val="90000"/>
                </a:lnSpc>
                <a:spcBef>
                  <a:spcPts val="700"/>
                </a:spcBef>
              </a:pPr>
              <a:endParaRPr b="0" lang="en-ZA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Box 1"/>
          <p:cNvSpPr/>
          <p:nvPr/>
        </p:nvSpPr>
        <p:spPr>
          <a:xfrm>
            <a:off x="651600" y="1088640"/>
            <a:ext cx="709740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ZA" sz="6600" spc="-1" strike="noStrike">
                <a:solidFill>
                  <a:srgbClr val="ffffff"/>
                </a:solidFill>
                <a:latin typeface="Arial Black"/>
              </a:rPr>
              <a:t>PROGRAMME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ZA" sz="5400" spc="-1" strike="noStrike">
                <a:solidFill>
                  <a:srgbClr val="ffffff"/>
                </a:solidFill>
                <a:latin typeface="Arial Black"/>
              </a:rPr>
              <a:t>INCARCE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: Top Corners Rounded 60"/>
          <p:cNvSpPr/>
          <p:nvPr/>
        </p:nvSpPr>
        <p:spPr>
          <a:xfrm rot="5400000">
            <a:off x="5384880" y="-5367600"/>
            <a:ext cx="1439640" cy="121748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66" name="TextBox 8"/>
          <p:cNvSpPr/>
          <p:nvPr/>
        </p:nvSpPr>
        <p:spPr>
          <a:xfrm>
            <a:off x="-228600" y="1673640"/>
            <a:ext cx="1165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PROJECT PLAN TO ADDRESS UNDER PERFORMANCE MANAGEMENT 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Table 11"/>
          <p:cNvGraphicFramePr/>
          <p:nvPr/>
        </p:nvGraphicFramePr>
        <p:xfrm>
          <a:off x="216000" y="2298960"/>
          <a:ext cx="11670840" cy="4299840"/>
        </p:xfrm>
        <a:graphic>
          <a:graphicData uri="http://schemas.openxmlformats.org/drawingml/2006/table">
            <a:tbl>
              <a:tblPr/>
              <a:tblGrid>
                <a:gridCol w="1945080"/>
                <a:gridCol w="1945080"/>
                <a:gridCol w="1945080"/>
                <a:gridCol w="1945080"/>
                <a:gridCol w="1945080"/>
                <a:gridCol w="1945080"/>
              </a:tblGrid>
              <a:tr h="58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 /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</a:tr>
              <a:tr h="86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s Programme activities to commence according to Covid 19 Risk Adjustment Strateg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Cor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fully fledged restorative justice  activiti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ange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s Programme activities to commence according to Covid 19 Risk Adjustment Strateg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Cor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fully fledged restorative justice  activiti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enco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s Programme activities to commence according to Covid 19 Risk Adjustment Strateg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Cor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fully fledged restorative justice  activiti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kst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s Programme activities to commence according to Covid 19 Risk Adjustment Strateg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Cor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fully fledged restorative justice  activiti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68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LAN TO ADDRESS UNDER 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'Percentage increase of victims participating in Restorative Justice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: Top Corners Rounded 60"/>
          <p:cNvSpPr/>
          <p:nvPr/>
        </p:nvSpPr>
        <p:spPr>
          <a:xfrm rot="5400000">
            <a:off x="5384880" y="-5367600"/>
            <a:ext cx="1439640" cy="121748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70" name="TextBox 8"/>
          <p:cNvSpPr/>
          <p:nvPr/>
        </p:nvSpPr>
        <p:spPr>
          <a:xfrm>
            <a:off x="29520" y="1440000"/>
            <a:ext cx="1170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PROJECT PLAN TO ADDRESS UNDER PERFORMANCE MANAGEMENT 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Table 11"/>
          <p:cNvGraphicFramePr/>
          <p:nvPr/>
        </p:nvGraphicFramePr>
        <p:xfrm>
          <a:off x="29520" y="2043000"/>
          <a:ext cx="12162240" cy="6199560"/>
        </p:xfrm>
        <a:graphic>
          <a:graphicData uri="http://schemas.openxmlformats.org/drawingml/2006/table">
            <a:tbl>
              <a:tblPr/>
              <a:tblGrid>
                <a:gridCol w="2026800"/>
                <a:gridCol w="2026800"/>
                <a:gridCol w="2026800"/>
                <a:gridCol w="2026800"/>
                <a:gridCol w="2026800"/>
                <a:gridCol w="2026800"/>
              </a:tblGrid>
              <a:tr h="73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 /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</a:tr>
              <a:tr h="108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s Programme activities to commence according to Covid 19 Risk Adjustment Strategy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Cor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fully fledged restorative justice  activities 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VOD resuscitated during lockdown  alert leve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marketing of VOD to Imbizos and local community radio st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8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Bu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s Programme activities to commence according to Covid 19 Risk Adjustment Strateg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Cor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fully fledged restorative justice  activities 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VOD resuscitated during lockdown  alert leve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marketing of VOD to Imbizos and local community radio st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8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s Programme activities to commence according to Covid 19 Risk Adjustment Strateg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Cor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fully fledged restorative justice  activities 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VOD resuscitated during lockdown  alert leve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marketing of VOD to Imbizos and local community radio st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72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LAN TO ADDRESS UNDER 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000" spc="-1" strike="noStrike">
                <a:solidFill>
                  <a:srgbClr val="ffffff"/>
                </a:solidFill>
                <a:latin typeface="Arial Black"/>
              </a:rPr>
              <a:t>'Percentage increase of victims participating in Restorative Justice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: Top Corners Rounded 60"/>
          <p:cNvSpPr/>
          <p:nvPr/>
        </p:nvSpPr>
        <p:spPr>
          <a:xfrm rot="5400000">
            <a:off x="5232240" y="-5215320"/>
            <a:ext cx="1439640" cy="1187028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74" name="Title 1"/>
          <p:cNvSpPr/>
          <p:nvPr/>
        </p:nvSpPr>
        <p:spPr>
          <a:xfrm>
            <a:off x="63000" y="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increase of offenders, parolees and probationers participating in Restorative Justice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7"/>
          <p:cNvSpPr/>
          <p:nvPr/>
        </p:nvSpPr>
        <p:spPr>
          <a:xfrm>
            <a:off x="124560" y="1416600"/>
            <a:ext cx="892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REGIONAL TARGET VERSUS PERFORMANCE FOR 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QUARTER (2020/202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8"/>
          <p:cNvSpPr/>
          <p:nvPr/>
        </p:nvSpPr>
        <p:spPr>
          <a:xfrm>
            <a:off x="201960" y="3232800"/>
            <a:ext cx="10058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MANAGEMENT AR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Table 9"/>
          <p:cNvGraphicFramePr/>
          <p:nvPr/>
        </p:nvGraphicFramePr>
        <p:xfrm>
          <a:off x="228600" y="1828800"/>
          <a:ext cx="11658240" cy="114264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</a:tr>
              <a:tr h="716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a Zulu Na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( -326/410)=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-79.5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8" name="Table 11"/>
          <p:cNvGraphicFramePr/>
          <p:nvPr/>
        </p:nvGraphicFramePr>
        <p:xfrm>
          <a:off x="192240" y="3809880"/>
          <a:ext cx="11694600" cy="1928520"/>
        </p:xfrm>
        <a:graphic>
          <a:graphicData uri="http://schemas.openxmlformats.org/drawingml/2006/table">
            <a:tbl>
              <a:tblPr/>
              <a:tblGrid>
                <a:gridCol w="1299240"/>
                <a:gridCol w="1299240"/>
                <a:gridCol w="1299240"/>
                <a:gridCol w="1299240"/>
                <a:gridCol w="1299240"/>
                <a:gridCol w="1299240"/>
                <a:gridCol w="1299240"/>
                <a:gridCol w="1299240"/>
                <a:gridCol w="1299240"/>
              </a:tblGrid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375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5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mpa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5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5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Kokst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: Top Corners Rounded 60"/>
          <p:cNvSpPr/>
          <p:nvPr/>
        </p:nvSpPr>
        <p:spPr>
          <a:xfrm rot="5400000">
            <a:off x="5214240" y="-5196960"/>
            <a:ext cx="1439640" cy="1183356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80" name="Title 1"/>
          <p:cNvSpPr/>
          <p:nvPr/>
        </p:nvSpPr>
        <p:spPr>
          <a:xfrm>
            <a:off x="63000" y="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increase of offenders, parolees and probationers participating in Restorative Justice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8"/>
          <p:cNvSpPr/>
          <p:nvPr/>
        </p:nvSpPr>
        <p:spPr>
          <a:xfrm>
            <a:off x="192240" y="1905120"/>
            <a:ext cx="10058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MANAGEMENT AREA LEVEL (CONT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Table 11"/>
          <p:cNvGraphicFramePr/>
          <p:nvPr/>
        </p:nvGraphicFramePr>
        <p:xfrm>
          <a:off x="192240" y="2590920"/>
          <a:ext cx="11658240" cy="208008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123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28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PMB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: Top Corners Rounded 60"/>
          <p:cNvSpPr/>
          <p:nvPr/>
        </p:nvSpPr>
        <p:spPr>
          <a:xfrm rot="5400000">
            <a:off x="5384880" y="-5367600"/>
            <a:ext cx="1439640" cy="121748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84" name="TextBox 8"/>
          <p:cNvSpPr/>
          <p:nvPr/>
        </p:nvSpPr>
        <p:spPr>
          <a:xfrm>
            <a:off x="0" y="1440000"/>
            <a:ext cx="1127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CORRECTIONAL CENTRE LEVEL MANAGEMENT 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Table 11"/>
          <p:cNvGraphicFramePr/>
          <p:nvPr/>
        </p:nvGraphicFramePr>
        <p:xfrm>
          <a:off x="29520" y="2133720"/>
          <a:ext cx="12009960" cy="5859000"/>
        </p:xfrm>
        <a:graphic>
          <a:graphicData uri="http://schemas.openxmlformats.org/drawingml/2006/table">
            <a:tbl>
              <a:tblPr/>
              <a:tblGrid>
                <a:gridCol w="1570680"/>
                <a:gridCol w="1600200"/>
                <a:gridCol w="1676160"/>
                <a:gridCol w="1752480"/>
                <a:gridCol w="1904760"/>
                <a:gridCol w="1752480"/>
                <a:gridCol w="1752480"/>
              </a:tblGrid>
              <a:tr h="40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 2020/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RTER 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S THAT CONTRIBUTED TOWARDS UNDER-ACHIEV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S FOR UND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 CAUS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CIATED RISK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193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 Programme suspended due to Covid 19 Risk Adjusted Strategy (Suspension of visits to Correctional Cen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uspension of Restorative Justice Programme due to Covid 19 Risk Adjusted Strategy (Suspension of visits to Correctional Cen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oal  of effectively and efficiently reintegrating offenders in to communities  not realized and  lack of meaningful involvement of  victims  in restorative Justice  Program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93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7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mpange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 Programme suspended due to Covid 19 Risk Adjusted Strategy (Suspension of visits to Correctional Cen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uspension of Restorative Justice Programme due to Covid 19 Risk Adjusted Strategy (Suspension of visits to Correctional Cen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oal  of effectively and efficiently reintegrating offenders in to communities  not realized and  lack of meaningful involvement of  victims  in restorative Justice  Program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93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1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 Programme suspended due to Covid 19 Risk Adjusted Strategy (Suspension of visits to Correctional Cen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uspension of Restorative Justice Programme due to Covid 19 Risk Adjusted Strategy (Suspension of visits to Correctional Cen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oal  of effectively and efficiently reintegrating offenders in to communities  not realized and  lack of meaningful involvement of  victims  in restorative Justice  Program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93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5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Denominator to be includ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Kokst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 Programme suspended due to Covid 19 Risk Adjusted Strategy (Suspension of visits to Correctional Cen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uspension of Restorative Justice Programme due to Covid 19 Risk Adjusted Strategy (Suspension of visits to Correctional Cen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oal  of effectively and efficiently reintegrating offenders in to communities  not realized and  lack of meaningful involvement of  victims  in restorative Justice  Program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86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increase of offenders, parolees and probationers participating in Restorative Justice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: Top Corners Rounded 60"/>
          <p:cNvSpPr/>
          <p:nvPr/>
        </p:nvSpPr>
        <p:spPr>
          <a:xfrm rot="5400000">
            <a:off x="5384880" y="-5367600"/>
            <a:ext cx="1439640" cy="121748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88" name="TextBox 8"/>
          <p:cNvSpPr/>
          <p:nvPr/>
        </p:nvSpPr>
        <p:spPr>
          <a:xfrm>
            <a:off x="216000" y="1440000"/>
            <a:ext cx="11061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CORRECTIONAL CENTRE LEVEL MANAGEMENT ARE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Table 11"/>
          <p:cNvGraphicFramePr/>
          <p:nvPr/>
        </p:nvGraphicFramePr>
        <p:xfrm>
          <a:off x="29520" y="2086200"/>
          <a:ext cx="12009960" cy="5926680"/>
        </p:xfrm>
        <a:graphic>
          <a:graphicData uri="http://schemas.openxmlformats.org/drawingml/2006/table">
            <a:tbl>
              <a:tblPr/>
              <a:tblGrid>
                <a:gridCol w="1715400"/>
                <a:gridCol w="1715400"/>
                <a:gridCol w="1715400"/>
                <a:gridCol w="1715400"/>
                <a:gridCol w="1715400"/>
                <a:gridCol w="1715400"/>
                <a:gridCol w="1715400"/>
              </a:tblGrid>
              <a:tr h="62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 2020/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RTER 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S THAT CONTRIBUTED TOWARDS UNDER-ACHIEV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S FOR UND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 CAUS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CIATED RISK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456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 Programme suspended due to Covid 19 Risk Adjusted Strategy (Suspension of visits to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uspension of Restorative Justice Programme due to Covid 19 Risk Adjusted Strategy (Suspension of visits to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oal  of effectively and efficiently reintegrating offenders in to communities  not realized and  lack of meaningful involvement of  victims  in restorative Justice  Program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456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8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7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Pietermaritzb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 Programme suspended due to Covid 19 Risk Adjusted Strategy (Suspension of visits to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uspension of Restorative Justice Programme due to Covid 19 Risk Adjusted Strategy (Suspension of visits to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oal  of effectively and efficiently reintegrating offenders in to communities  not realized and  lack of meaningful involvement of  victims  in restorative Justice  Program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456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 Programme suspended due to Covid 19 Risk Adjusted Strategy (Suspension of visits to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uspension of Restorative Justice Programme due to Covid 19 Risk Adjusted Strategy (Suspension of visits to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oal  of effectively and efficiently reintegrating offenders in to communities  not realized and  lack of meaningful involvement of  victims  in restorative Justice  Program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90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increase of offenders, parolees and probationers participating in Restorative Justice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: Top Corners Rounded 60"/>
          <p:cNvSpPr/>
          <p:nvPr/>
        </p:nvSpPr>
        <p:spPr>
          <a:xfrm rot="5400000">
            <a:off x="5533200" y="-5439600"/>
            <a:ext cx="1142640" cy="121748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92" name="TextBox 8"/>
          <p:cNvSpPr/>
          <p:nvPr/>
        </p:nvSpPr>
        <p:spPr>
          <a:xfrm>
            <a:off x="-228600" y="1143000"/>
            <a:ext cx="1158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PROJECT PLAN TO ADDRESS UNDER PERFORMANCE MANAGEMENT 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Table 11"/>
          <p:cNvGraphicFramePr/>
          <p:nvPr/>
        </p:nvGraphicFramePr>
        <p:xfrm>
          <a:off x="29520" y="1512360"/>
          <a:ext cx="12162240" cy="5833080"/>
        </p:xfrm>
        <a:graphic>
          <a:graphicData uri="http://schemas.openxmlformats.org/drawingml/2006/table">
            <a:tbl>
              <a:tblPr/>
              <a:tblGrid>
                <a:gridCol w="2016000"/>
                <a:gridCol w="2028960"/>
                <a:gridCol w="1942560"/>
                <a:gridCol w="2115720"/>
                <a:gridCol w="2028960"/>
                <a:gridCol w="2028960"/>
              </a:tblGrid>
              <a:tr h="615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 /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</a:tr>
              <a:tr h="130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Formulate VOD Forums in each cent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Develop a tracing unit within the management are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ncourage offenders to participate in V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Commissioner and Area Coordinator Cor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te d VOD Forums in each cent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ed a tracing unit within the management are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d offenders to participate in V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30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mpange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Formulate VOD Forums in each cent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Develop a tracing unit within the management are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ncourage offenders to participate in V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Commissioner and Area Coordinator Cor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te d VOD Forums in each cent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ed a tracing unit within the management are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d offenders to participate in V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30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Formulate VOD Forums in each cent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Develop a tracing unit within the management are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ncourage offenders to participate in V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Commissioner and Area Coordinator Cor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te d VOD Forums in each cent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ed a tracing unit within the management are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d offenders to participate in V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30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Kokst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Formulate VOD Forums in each cent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Develop a tracing unit within the management are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ncourage offenders to participate in V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Commissioner and Area Coordinator Cor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te d VOD Forums in each cent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ed a tracing unit within the management are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d offenders to participate in V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94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LAN TO ADDRESS UNDER PERFORM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1800" spc="-1" strike="noStrike">
                <a:solidFill>
                  <a:srgbClr val="ffffff"/>
                </a:solidFill>
                <a:latin typeface="Arial Black"/>
              </a:rPr>
              <a:t>Percentage increase of offenders, parolees and probationers participating in Restorative Justice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: Top Corners Rounded 60"/>
          <p:cNvSpPr/>
          <p:nvPr/>
        </p:nvSpPr>
        <p:spPr>
          <a:xfrm rot="5400000">
            <a:off x="5384880" y="-5367600"/>
            <a:ext cx="1439640" cy="121748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96" name="TextBox 8"/>
          <p:cNvSpPr/>
          <p:nvPr/>
        </p:nvSpPr>
        <p:spPr>
          <a:xfrm>
            <a:off x="-228600" y="1673640"/>
            <a:ext cx="1158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PROJECT PLAN TO ADDRESS UNDER PERFORMANCE MANAGEMENT 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Table 11"/>
          <p:cNvGraphicFramePr/>
          <p:nvPr/>
        </p:nvGraphicFramePr>
        <p:xfrm>
          <a:off x="216000" y="2043000"/>
          <a:ext cx="11670840" cy="4773960"/>
        </p:xfrm>
        <a:graphic>
          <a:graphicData uri="http://schemas.openxmlformats.org/drawingml/2006/table">
            <a:tbl>
              <a:tblPr/>
              <a:tblGrid>
                <a:gridCol w="1945080"/>
                <a:gridCol w="1945080"/>
                <a:gridCol w="1945080"/>
                <a:gridCol w="1945080"/>
                <a:gridCol w="1945080"/>
                <a:gridCol w="1945080"/>
              </a:tblGrid>
              <a:tr h="613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 /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</a:tr>
              <a:tr h="1298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te VOD Forums in each cent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a tracing unit within the management are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 offenders to participate in V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Commissioner and Area Coordinator Cor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te d VOD Forums in each cent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ed a tracing unit within the management are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d offenders to participate in V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98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Pietermaritzb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te VOD Forums in each cent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a tracing unit within the management are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 offenders to participate in V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Commissioner and Area Coordinator Cor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te d VOD Forums in each cent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ed a tracing unit within the management are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d offenders to participate in V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98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te VOD Forums in each cent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a tracing unit within the management are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 offenders to participate in V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Commissioner and Area Coordinator Cor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te d VOD Forums in each cent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ed a tracing unit within the management are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d offenders to participate in V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98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LAN TO ADDRESS UNDER 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increase of offenders, parolees and probationers participating in Restorative Justice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11" descr="Slide1 Template_1.2_back.jpg"/>
          <p:cNvPicPr/>
          <p:nvPr/>
        </p:nvPicPr>
        <p:blipFill>
          <a:blip r:embed="rId1"/>
          <a:stretch/>
        </p:blipFill>
        <p:spPr>
          <a:xfrm>
            <a:off x="0" y="-2556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00" name="TextBox 4"/>
          <p:cNvSpPr/>
          <p:nvPr/>
        </p:nvSpPr>
        <p:spPr>
          <a:xfrm>
            <a:off x="2758680" y="271440"/>
            <a:ext cx="4522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12"/>
          <p:cNvSpPr/>
          <p:nvPr/>
        </p:nvSpPr>
        <p:spPr>
          <a:xfrm>
            <a:off x="2603520" y="424080"/>
            <a:ext cx="63378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ZA" sz="2000" spc="-1" strike="noStrike">
                <a:solidFill>
                  <a:srgbClr val="005300"/>
                </a:solidFill>
                <a:latin typeface="Calibri"/>
              </a:rPr>
              <a:t>THANK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ZA" sz="2000" spc="-1" strike="noStrike">
                <a:solidFill>
                  <a:srgbClr val="005300"/>
                </a:solidFill>
                <a:latin typeface="Calibri"/>
              </a:rPr>
              <a:t>STRIVING FOR A SOUTH AFRICA IN WHICH PEOPLE ARE AND FEEL SA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: Top Corners Rounded 60"/>
          <p:cNvSpPr/>
          <p:nvPr/>
        </p:nvSpPr>
        <p:spPr>
          <a:xfrm rot="5400000">
            <a:off x="5079240" y="-5182560"/>
            <a:ext cx="1663200" cy="1202868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63000" y="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of inmates injured as a result of reported assaults in Correctional Faci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7"/>
          <p:cNvSpPr/>
          <p:nvPr/>
        </p:nvSpPr>
        <p:spPr>
          <a:xfrm>
            <a:off x="203040" y="1663560"/>
            <a:ext cx="892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REGIONAL TARGET VERSUS PERFORMANCE FOR 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QUARTER (2020/202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8"/>
          <p:cNvSpPr/>
          <p:nvPr/>
        </p:nvSpPr>
        <p:spPr>
          <a:xfrm>
            <a:off x="-104040" y="410508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MANAGEMENT AR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Table 9"/>
          <p:cNvGraphicFramePr/>
          <p:nvPr/>
        </p:nvGraphicFramePr>
        <p:xfrm>
          <a:off x="266760" y="2058480"/>
          <a:ext cx="11658240" cy="106704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37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</a:tr>
              <a:tr h="375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a Zulu Na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92/25120 = 1.56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05/22173 = 1.3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95/25120 = 1.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55/21851 = 2.0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93/25120 = 2.3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37/22009 = 2.4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.3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37/22009 = 2.4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5" name="Table 11"/>
          <p:cNvGraphicFramePr/>
          <p:nvPr/>
        </p:nvGraphicFramePr>
        <p:xfrm>
          <a:off x="228600" y="4572000"/>
          <a:ext cx="11658240" cy="184032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471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47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24/7884 = 1.5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77/7608 = 2.3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55/7884 = 1.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7/1620 = 2.9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86/7884 = 2.3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18/7163 = 1.4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86/7884 = 2.3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18/7163 = 1.4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7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2/2106 = 1.5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7/1651 = 1.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68/7381 = 3.6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5/2230 = 2.0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9/2106 = 2.3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8/2252 = 2.3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9/2106 = 2.3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8/2252 = 2.3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14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6/2230 = 1.6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4/1716 = 1.4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1/2106 = 1.9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6/1762  = 2.6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4/2230 = 2.4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0/1800 = 2.7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4/2230 = 2.4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0/1800 = 2.7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: Top Corners Rounded 60"/>
          <p:cNvSpPr/>
          <p:nvPr/>
        </p:nvSpPr>
        <p:spPr>
          <a:xfrm rot="5400000">
            <a:off x="5533200" y="-5515920"/>
            <a:ext cx="1142640" cy="121748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17" name="TextBox 8"/>
          <p:cNvSpPr/>
          <p:nvPr/>
        </p:nvSpPr>
        <p:spPr>
          <a:xfrm>
            <a:off x="29520" y="1143000"/>
            <a:ext cx="11705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. SOURCE OF UNDER-ACHIEVEMENT AT CORRECTIONAL CENTRE LEVEL MANAGEMENT 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Table 11"/>
          <p:cNvGraphicFramePr/>
          <p:nvPr/>
        </p:nvGraphicFramePr>
        <p:xfrm>
          <a:off x="29520" y="1789200"/>
          <a:ext cx="12191760" cy="5901120"/>
        </p:xfrm>
        <a:graphic>
          <a:graphicData uri="http://schemas.openxmlformats.org/drawingml/2006/table">
            <a:tbl>
              <a:tblPr/>
              <a:tblGrid>
                <a:gridCol w="1494360"/>
                <a:gridCol w="1676160"/>
                <a:gridCol w="1295280"/>
                <a:gridCol w="1523880"/>
                <a:gridCol w="2971800"/>
                <a:gridCol w="1487880"/>
                <a:gridCol w="1741680"/>
              </a:tblGrid>
              <a:tr h="763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 2020/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RTER 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S THAT CONTRIBUTED TOWARDS UNDER-ACHIEV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S FOR UND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 CAUS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CIATED RISK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944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86/7884 = 2.3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18/7163 = 1.4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. Remand Detention  Fac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. Maxim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were under lot of stress during lockdown and they tend to become irritable with each othe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uspension of visits  caused the anxiet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Uncertainty about if hey will survive Covid - 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Mass riot between gang members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Escap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Unnatural dea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22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9/2106 = 2.3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8/2252 = 2.3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scou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During the month of August 2020 gang related violent activities were rife emanating from the death of an offender at Glencoe Correctional Centre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Movement of offenders from bigger centres also contributed to the increase in gang related violent incid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Mass riot between gang members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Escap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Unnatural dea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73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4/2230 = 2.4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0/1800 = 2.7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1. Waterval med.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2. Waterval med.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Movement of offenders from bigger centres to Farm correctional centres triggered gangsteris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Gang  related assaults amongst sentenced offenders and remand detaine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Some offenders are still active and practicing gangsterism despite  the fact that gang management strategy has been implemented. During  level five Covid -19 regulation period offenders were frustrated because of tobacco unavailabilit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Mass riot between gang members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Escap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Unnatural dea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19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000" spc="-1" strike="noStrike">
                <a:solidFill>
                  <a:srgbClr val="ffffff"/>
                </a:solidFill>
                <a:latin typeface="Arial Black"/>
              </a:rPr>
              <a:t>Percentage of inmates injured as a result of reported assaults in Correctional Faci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: Top Corners Rounded 60"/>
          <p:cNvSpPr/>
          <p:nvPr/>
        </p:nvSpPr>
        <p:spPr>
          <a:xfrm rot="5400000">
            <a:off x="5232240" y="-5215320"/>
            <a:ext cx="1439640" cy="1187028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1" name="TextBox 8"/>
          <p:cNvSpPr/>
          <p:nvPr/>
        </p:nvSpPr>
        <p:spPr>
          <a:xfrm>
            <a:off x="-228600" y="1440000"/>
            <a:ext cx="12039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DURBAN PROJECT PLAN TO ADDRESS UNDER PERFORMANCE – MANAGEMENT AREA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Table 11"/>
          <p:cNvGraphicFramePr/>
          <p:nvPr/>
        </p:nvGraphicFramePr>
        <p:xfrm>
          <a:off x="216000" y="2181600"/>
          <a:ext cx="11670840" cy="4474800"/>
        </p:xfrm>
        <a:graphic>
          <a:graphicData uri="http://schemas.openxmlformats.org/drawingml/2006/table">
            <a:tbl>
              <a:tblPr/>
              <a:tblGrid>
                <a:gridCol w="1945080"/>
                <a:gridCol w="1496160"/>
                <a:gridCol w="2819160"/>
                <a:gridCol w="1519560"/>
                <a:gridCol w="1945080"/>
                <a:gridCol w="1945080"/>
              </a:tblGrid>
              <a:tr h="55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 /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</a:tr>
              <a:tr h="3592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. Remand Detention  Fac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. Maxim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Resensitize officials on the implementation of the Anti Gang Strateg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Identify hotspots (sections) where assaults are rif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Control the movement of offenders during feeding.  (feeding in batches of grou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Placement of food trolleys closer to cells being fed to minimise distance to be travell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Combine available sections (officials present) to beef up security in the sec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Control and separate foreign national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Increase surprise searching of cel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Manage the complaints and requests of offende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Ensure the availability of the Dog Unit and EST during fee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/ Area Coordinator Corrections  </a:t>
                      </a:r>
                      <a:r>
                        <a:rPr b="0" lang="en-ZA" sz="11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/ Manager Security/ Head of Centre/ CC Ops/ CC Staff Support/ DH Security/ Unit Managers/ Supervis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nti Gang Strategy   implement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Hotspots are closely monitor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 movement controll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urprise searches have been increas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mplaints and requests are being attended t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ST and Dog Unit is made available during feeding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23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LAN TO ADDRESS UNDER 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of inmates injured as a result of reported assaults in Correctional Faci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: Top Corners Rounded 60"/>
          <p:cNvSpPr/>
          <p:nvPr/>
        </p:nvSpPr>
        <p:spPr>
          <a:xfrm rot="5400000">
            <a:off x="5232240" y="-5215320"/>
            <a:ext cx="1439640" cy="1187028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5" name="TextBox 8"/>
          <p:cNvSpPr/>
          <p:nvPr/>
        </p:nvSpPr>
        <p:spPr>
          <a:xfrm>
            <a:off x="-228600" y="1673640"/>
            <a:ext cx="121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PROJECT PLAN TO ADDRESS UNDER PERFORMANCE – MANAGEMENT 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Table 11"/>
          <p:cNvGraphicFramePr/>
          <p:nvPr/>
        </p:nvGraphicFramePr>
        <p:xfrm>
          <a:off x="216000" y="2043000"/>
          <a:ext cx="11670840" cy="5779800"/>
        </p:xfrm>
        <a:graphic>
          <a:graphicData uri="http://schemas.openxmlformats.org/drawingml/2006/table">
            <a:tbl>
              <a:tblPr/>
              <a:tblGrid>
                <a:gridCol w="1945080"/>
                <a:gridCol w="1496160"/>
                <a:gridCol w="2819160"/>
                <a:gridCol w="1519560"/>
                <a:gridCol w="1945080"/>
                <a:gridCol w="1945080"/>
              </a:tblGrid>
              <a:tr h="66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 /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</a:tr>
              <a:tr h="1845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Prevention of assaults and inju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Surprise visits by Executive manageme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Reopening of Recreational activ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Marketing of Educational program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Visitations reope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Surprise search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/ Area Coordinator Corrections  </a:t>
                      </a: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/ Manager Security/ Head of Centre/ CC Ops/ CC Staff Support/ DH Security/ Unit Managers/ Supervis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Assault Prevention Plans have been implement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Visits by some Executive Management memb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Visitation reopened with close monitoring of visito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Recreational activities arranged to keep inmates recreationally bus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Participation in Educational has been market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845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1. Waterval med.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2. Waterval med.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ffective implementation of Gang management strategy , continue to hold security meetings 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Close monitoring of offender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Proper handling of requests s and complain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/ Area Coordinator Corrections  </a:t>
                      </a:r>
                      <a:r>
                        <a:rPr b="0" lang="en-ZA" sz="11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/ Manager Security/ Head of Centre/ CC Ops/ CC Staff Support/ DH Security/ Unit Managers/ Supervis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ang management strategy has been implement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Movement of offenders within Units is being monitor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mplaints and requests from offenders are being attended and responded t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27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LAN TO ADDRESS UNDER 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of inmates injured as a result of reported assaults in Correctional Faci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6"/>
          <p:cNvGrpSpPr/>
          <p:nvPr/>
        </p:nvGrpSpPr>
        <p:grpSpPr>
          <a:xfrm>
            <a:off x="65880" y="-21600"/>
            <a:ext cx="8391960" cy="6270120"/>
            <a:chOff x="65880" y="-21600"/>
            <a:chExt cx="8391960" cy="6270120"/>
          </a:xfrm>
        </p:grpSpPr>
        <p:sp>
          <p:nvSpPr>
            <p:cNvPr id="329" name="Rectangle: Top Corners Rounded 24"/>
            <p:cNvSpPr/>
            <p:nvPr/>
          </p:nvSpPr>
          <p:spPr>
            <a:xfrm rot="10800000">
              <a:off x="651600" y="-8280"/>
              <a:ext cx="7220520" cy="6256800"/>
            </a:xfrm>
            <a:prstGeom prst="round2SameRect">
              <a:avLst>
                <a:gd name="adj1" fmla="val 13687"/>
                <a:gd name="adj2" fmla="val 0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00cc99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Isosceles Triangle 3"/>
            <p:cNvSpPr/>
            <p:nvPr/>
          </p:nvSpPr>
          <p:spPr>
            <a:xfrm>
              <a:off x="7859880" y="-21600"/>
              <a:ext cx="597960" cy="1535400"/>
            </a:xfrm>
            <a:custGeom>
              <a:avLst/>
              <a:gdLst>
                <a:gd name="textAreaLeft" fmla="*/ 0 w 597960"/>
                <a:gd name="textAreaRight" fmla="*/ 598320 w 597960"/>
                <a:gd name="textAreaTop" fmla="*/ 0 h 1535400"/>
                <a:gd name="textAreaBottom" fmla="*/ 1535760 h 1535400"/>
              </a:gdLst>
              <a:ahLst/>
              <a:rect l="textAreaLeft" t="textAreaTop" r="textAreaRight" b="textAreaBottom"/>
              <a:pathLst>
                <a:path w="520700" h="1270000">
                  <a:moveTo>
                    <a:pt x="520700" y="1270000"/>
                  </a:moveTo>
                  <a:lnTo>
                    <a:pt x="0" y="0"/>
                  </a:lnTo>
                  <a:lnTo>
                    <a:pt x="12700" y="1270000"/>
                  </a:lnTo>
                  <a:lnTo>
                    <a:pt x="520700" y="1270000"/>
                  </a:lnTo>
                  <a:close/>
                </a:path>
              </a:pathLst>
            </a:custGeom>
            <a:solidFill>
              <a:srgbClr val="009900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72000" rIns="72000" tIns="72000" bIns="72000" anchor="t">
              <a:spAutoFit/>
            </a:bodyPr>
            <a:p>
              <a:pPr algn="ctr">
                <a:lnSpc>
                  <a:spcPct val="90000"/>
                </a:lnSpc>
                <a:spcBef>
                  <a:spcPts val="700"/>
                </a:spcBef>
              </a:pPr>
              <a:endParaRPr b="0" lang="en-ZA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Isosceles Triangle 3"/>
            <p:cNvSpPr/>
            <p:nvPr/>
          </p:nvSpPr>
          <p:spPr>
            <a:xfrm flipV="1" rot="10800000">
              <a:off x="65880" y="-9000"/>
              <a:ext cx="597960" cy="1535400"/>
            </a:xfrm>
            <a:custGeom>
              <a:avLst/>
              <a:gdLst>
                <a:gd name="textAreaLeft" fmla="*/ 0 w 597960"/>
                <a:gd name="textAreaRight" fmla="*/ 598320 w 597960"/>
                <a:gd name="textAreaTop" fmla="*/ -360 h 1535400"/>
                <a:gd name="textAreaBottom" fmla="*/ 1535400 h 1535400"/>
              </a:gdLst>
              <a:ahLst/>
              <a:rect l="textAreaLeft" t="textAreaTop" r="textAreaRight" b="textAreaBottom"/>
              <a:pathLst>
                <a:path w="520700" h="1270000">
                  <a:moveTo>
                    <a:pt x="520700" y="1270000"/>
                  </a:moveTo>
                  <a:lnTo>
                    <a:pt x="0" y="0"/>
                  </a:lnTo>
                  <a:lnTo>
                    <a:pt x="12700" y="1270000"/>
                  </a:lnTo>
                  <a:lnTo>
                    <a:pt x="520700" y="1270000"/>
                  </a:lnTo>
                  <a:close/>
                </a:path>
              </a:pathLst>
            </a:custGeom>
            <a:solidFill>
              <a:srgbClr val="009900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72000" rIns="72000" tIns="72000" bIns="72000" anchor="t">
              <a:spAutoFit/>
            </a:bodyPr>
            <a:p>
              <a:pPr algn="ctr">
                <a:lnSpc>
                  <a:spcPct val="90000"/>
                </a:lnSpc>
                <a:spcBef>
                  <a:spcPts val="700"/>
                </a:spcBef>
              </a:pPr>
              <a:endParaRPr b="0" lang="en-ZA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Box 1"/>
          <p:cNvSpPr/>
          <p:nvPr/>
        </p:nvSpPr>
        <p:spPr>
          <a:xfrm>
            <a:off x="651600" y="1088640"/>
            <a:ext cx="709740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ZA" sz="6600" spc="-1" strike="noStrike">
                <a:solidFill>
                  <a:srgbClr val="ffffff"/>
                </a:solidFill>
                <a:latin typeface="Arial Black"/>
              </a:rPr>
              <a:t>PROGRAMME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ZA" sz="5400" spc="-1" strike="noStrike">
                <a:solidFill>
                  <a:srgbClr val="ffffff"/>
                </a:solidFill>
                <a:latin typeface="Arial Black"/>
              </a:rPr>
              <a:t>REHABILIT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3_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7d0900"/>
      </a:lt2>
      <a:accent1>
        <a:srgbClr val="808080"/>
      </a:accent1>
      <a:accent2>
        <a:srgbClr val="a0a0a0"/>
      </a:accent2>
      <a:accent3>
        <a:srgbClr val="ffffff"/>
      </a:accent3>
      <a:accent4>
        <a:srgbClr val="000000"/>
      </a:accent4>
      <a:accent5>
        <a:srgbClr val="c0c0c0"/>
      </a:accent5>
      <a:accent6>
        <a:srgbClr val="919191"/>
      </a:accent6>
      <a:hlink>
        <a:srgbClr val="b9b9b9"/>
      </a:hlink>
      <a:folHlink>
        <a:srgbClr val="dcdcd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Custom 94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afabab"/>
      </a:accent1>
      <a:accent2>
        <a:srgbClr val="e2583d"/>
      </a:accent2>
      <a:accent3>
        <a:srgbClr val="78d2d2"/>
      </a:accent3>
      <a:accent4>
        <a:srgbClr val="3b3939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3_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7d0900"/>
      </a:lt2>
      <a:accent1>
        <a:srgbClr val="808080"/>
      </a:accent1>
      <a:accent2>
        <a:srgbClr val="a0a0a0"/>
      </a:accent2>
      <a:accent3>
        <a:srgbClr val="ffffff"/>
      </a:accent3>
      <a:accent4>
        <a:srgbClr val="000000"/>
      </a:accent4>
      <a:accent5>
        <a:srgbClr val="c0c0c0"/>
      </a:accent5>
      <a:accent6>
        <a:srgbClr val="919191"/>
      </a:accent6>
      <a:hlink>
        <a:srgbClr val="b9b9b9"/>
      </a:hlink>
      <a:folHlink>
        <a:srgbClr val="dcdcd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3_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7d0900"/>
      </a:lt2>
      <a:accent1>
        <a:srgbClr val="808080"/>
      </a:accent1>
      <a:accent2>
        <a:srgbClr val="a0a0a0"/>
      </a:accent2>
      <a:accent3>
        <a:srgbClr val="ffffff"/>
      </a:accent3>
      <a:accent4>
        <a:srgbClr val="000000"/>
      </a:accent4>
      <a:accent5>
        <a:srgbClr val="c0c0c0"/>
      </a:accent5>
      <a:accent6>
        <a:srgbClr val="919191"/>
      </a:accent6>
      <a:hlink>
        <a:srgbClr val="b9b9b9"/>
      </a:hlink>
      <a:folHlink>
        <a:srgbClr val="dcdcd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3_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7d0900"/>
      </a:lt2>
      <a:accent1>
        <a:srgbClr val="808080"/>
      </a:accent1>
      <a:accent2>
        <a:srgbClr val="a0a0a0"/>
      </a:accent2>
      <a:accent3>
        <a:srgbClr val="ffffff"/>
      </a:accent3>
      <a:accent4>
        <a:srgbClr val="000000"/>
      </a:accent4>
      <a:accent5>
        <a:srgbClr val="c0c0c0"/>
      </a:accent5>
      <a:accent6>
        <a:srgbClr val="919191"/>
      </a:accent6>
      <a:hlink>
        <a:srgbClr val="b9b9b9"/>
      </a:hlink>
      <a:folHlink>
        <a:srgbClr val="dcdcd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3_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7d0900"/>
      </a:lt2>
      <a:accent1>
        <a:srgbClr val="808080"/>
      </a:accent1>
      <a:accent2>
        <a:srgbClr val="a0a0a0"/>
      </a:accent2>
      <a:accent3>
        <a:srgbClr val="ffffff"/>
      </a:accent3>
      <a:accent4>
        <a:srgbClr val="000000"/>
      </a:accent4>
      <a:accent5>
        <a:srgbClr val="c0c0c0"/>
      </a:accent5>
      <a:accent6>
        <a:srgbClr val="919191"/>
      </a:accent6>
      <a:hlink>
        <a:srgbClr val="b9b9b9"/>
      </a:hlink>
      <a:folHlink>
        <a:srgbClr val="dcdcd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3_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7d0900"/>
      </a:lt2>
      <a:accent1>
        <a:srgbClr val="808080"/>
      </a:accent1>
      <a:accent2>
        <a:srgbClr val="a0a0a0"/>
      </a:accent2>
      <a:accent3>
        <a:srgbClr val="ffffff"/>
      </a:accent3>
      <a:accent4>
        <a:srgbClr val="000000"/>
      </a:accent4>
      <a:accent5>
        <a:srgbClr val="c0c0c0"/>
      </a:accent5>
      <a:accent6>
        <a:srgbClr val="919191"/>
      </a:accent6>
      <a:hlink>
        <a:srgbClr val="b9b9b9"/>
      </a:hlink>
      <a:folHlink>
        <a:srgbClr val="dcdcd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7d0900"/>
      </a:lt2>
      <a:accent1>
        <a:srgbClr val="808080"/>
      </a:accent1>
      <a:accent2>
        <a:srgbClr val="a0a0a0"/>
      </a:accent2>
      <a:accent3>
        <a:srgbClr val="ffffff"/>
      </a:accent3>
      <a:accent4>
        <a:srgbClr val="000000"/>
      </a:accent4>
      <a:accent5>
        <a:srgbClr val="c0c0c0"/>
      </a:accent5>
      <a:accent6>
        <a:srgbClr val="919191"/>
      </a:accent6>
      <a:hlink>
        <a:srgbClr val="b9b9b9"/>
      </a:hlink>
      <a:folHlink>
        <a:srgbClr val="dcdcd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98</TotalTime>
  <Application>LibreOffice/7.4.7.2$Linux_X86_64 LibreOffice_project/40$Build-2</Application>
  <AppVersion>15.0000</AppVersion>
  <Words>8964</Words>
  <Paragraphs>1714</Paragraphs>
  <Company>Acer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4:01Z</dcterms:created>
  <dc:creator>Rowan Smyth</dc:creator>
  <dc:description/>
  <dc:language>en-US</dc:language>
  <cp:lastModifiedBy>Molokomme, Moutloane</cp:lastModifiedBy>
  <cp:lastPrinted>2019-10-31T17:02:31Z</cp:lastPrinted>
  <dcterms:modified xsi:type="dcterms:W3CDTF">2020-11-20T10:32:09Z</dcterms:modified>
  <cp:revision>4162</cp:revision>
  <dc:subject/>
  <dc:title>A high level vision will be developed which will determine the required operating model…  Scope will include all core elements of D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Custom</vt:lpwstr>
  </property>
  <property fmtid="{D5CDD505-2E9C-101B-9397-08002B2CF9AE}" pid="4" name="Slides">
    <vt:r8>48</vt:r8>
  </property>
</Properties>
</file>