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12192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12354592860008"/>
          <c:y val="0"/>
          <c:w val="0.87327851317021"/>
          <c:h val="0.9999035865792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Overall Q1  Performance Configuration</c:v>
                </c:pt>
              </c:strCache>
            </c:strRef>
          </c:tx>
          <c:spPr>
            <a:solidFill>
              <a:srgbClr val="80808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b05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Achieved</c:v>
                </c:pt>
                <c:pt idx="1">
                  <c:v>Not Achieved </c:v>
                </c:pt>
                <c:pt idx="2">
                  <c:v>Measured per academic year /Annually.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884600000000002</c:v>
                </c:pt>
                <c:pt idx="1">
                  <c:v>0.0769</c:v>
                </c:pt>
                <c:pt idx="2">
                  <c:v>0.0385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solidFill>
        <a:srgbClr val="808080"/>
      </a:solidFill>
    </a:ln>
  </c:spPr>
  <c:userShapes r:id="rId1"/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424521994919107</cdr:x>
      <cdr:y>0.075684535287312</cdr:y>
    </cdr:from>
    <cdr:to>
      <cdr:x>0.509025270758123</cdr:x>
      <cdr:y>0.158021596606248</cdr:y>
    </cdr:to>
    <cdr:sp>
      <cdr:nvSpPr>
        <cdr:cNvPr id="303" name="TextBox 1"/>
        <cdr:cNvSpPr/>
      </cdr:nvSpPr>
      <cdr:spPr>
        <a:xfrm>
          <a:off x="4572000" y="282600"/>
          <a:ext cx="910080" cy="307440"/>
        </a:xfrm>
        <a:prstGeom prst="rect">
          <a:avLst/>
        </a:prstGeom>
        <a:solidFill>
          <a:schemeClr val="bg1"/>
        </a:solidFill>
        <a:ln w="0">
          <a:noFill/>
        </a:ln>
      </cdr:spPr>
      <cdr:style>
        <a:lnRef idx="0"/>
        <a:fillRef idx="0"/>
        <a:effectRef idx="0"/>
        <a:fontRef idx="minor"/>
      </cdr:style>
      <cdr:txBody>
        <a:bodyPr vertOverflow="clip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en-US" sz="1600" spc="-1" strike="noStrike">
              <a:solidFill>
                <a:srgbClr val="000000"/>
              </a:solidFill>
              <a:latin typeface="Times New Roman"/>
            </a:rPr>
            <a:t>   </a:t>
          </a:r>
          <a:r>
            <a:rPr b="1" lang="en-US" sz="1600" spc="-1" strike="noStrike">
              <a:solidFill>
                <a:srgbClr val="000000"/>
              </a:solidFill>
              <a:latin typeface="Times New Roman"/>
            </a:rPr>
            <a:t>28%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518852787805856</cdr:x>
      <cdr:y>0.469340532202083</cdr:y>
    </cdr:from>
    <cdr:to>
      <cdr:x>0.650889156304319</cdr:x>
      <cdr:y>0.591689163131508</cdr:y>
    </cdr:to>
    <cdr:sp>
      <cdr:nvSpPr>
        <cdr:cNvPr id="304" name="TextBox 3"/>
        <cdr:cNvSpPr/>
      </cdr:nvSpPr>
      <cdr:spPr>
        <a:xfrm>
          <a:off x="5587920" y="1752480"/>
          <a:ext cx="1422000" cy="456840"/>
        </a:xfrm>
        <a:prstGeom prst="rect">
          <a:avLst/>
        </a:prstGeom>
        <a:solidFill>
          <a:schemeClr val="bg1"/>
        </a:solidFill>
        <a:ln w="0">
          <a:noFill/>
        </a:ln>
      </cdr:spPr>
      <cdr:style>
        <a:lnRef idx="0"/>
        <a:fillRef idx="0"/>
        <a:effectRef idx="0"/>
        <a:fontRef idx="minor"/>
      </cdr:style>
      <cdr:txBody>
        <a:bodyPr vertOverflow="clip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en-US" sz="1800" spc="-1" strike="noStrike">
              <a:solidFill>
                <a:srgbClr val="000000"/>
              </a:solidFill>
              <a:latin typeface="Times New Roman"/>
            </a:rPr>
            <a:t>72%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01DFF6-419D-414A-8F87-844EEBCE3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Num" idx="7"/>
          </p:nvPr>
        </p:nvSpPr>
        <p:spPr>
          <a:xfrm>
            <a:off x="3850200" y="9429480"/>
            <a:ext cx="2945520" cy="495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CF85A3-818D-4F53-B555-E0AC95626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272880" y="836640"/>
            <a:ext cx="6194160" cy="34840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3"/>
          <p:cNvSpPr>
            <a:spLocks noGrp="1"/>
          </p:cNvSpPr>
          <p:nvPr>
            <p:ph type="body"/>
          </p:nvPr>
        </p:nvSpPr>
        <p:spPr>
          <a:xfrm>
            <a:off x="907200" y="4715640"/>
            <a:ext cx="4982760" cy="4465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E07-81A7-4682-8D4E-6E365697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0FE-5058-4A0C-940D-4872D396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50E-2772-4EAF-984D-477B8EA2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364-8DB6-4C4D-83FA-723E8110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2B7-1F1B-4820-9102-B199A36D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5C9-8804-4902-936F-BC0A7D02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D47-7CD0-4647-BC12-0792864E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9BF-1E19-4653-A0F3-21BE00D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636-2E36-4E69-8DC6-AABA7891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3AB-99DB-43E8-B606-4D110070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386-F566-4408-B085-B868DE05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AF9-D010-42B4-AB99-7FE61CB1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13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235560" y="278676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2604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123760" y="209232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279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22604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123760" y="2786760"/>
            <a:ext cx="371196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79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5560" y="2092320"/>
            <a:ext cx="562608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7960" y="2786760"/>
            <a:ext cx="11529000" cy="6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 hidden="1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291127FF-3776-4C54-995F-730E2B221FD0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AutoShape 73"/>
          <p:cNvGraphicFramePr/>
          <p:nvPr/>
        </p:nvGraphicFramePr>
        <p:xfrm>
          <a:off x="0" y="0"/>
          <a:ext cx="211320" cy="158400"/>
        </p:xfrm>
        <a:graphic>
          <a:graphicData uri="http://schemas.openxmlformats.org/presentationml/2006/ole">
            <p:oleObj r:id="rId2" spid="">
              <p:embed/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1720" y="3124080"/>
            <a:ext cx="91479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C:\Users\jmumaw\Desktop\DCS\Pics\Logo.JPG"/>
          <p:cNvPicPr/>
          <p:nvPr/>
        </p:nvPicPr>
        <p:blipFill>
          <a:blip r:embed="rId3"/>
          <a:stretch/>
        </p:blipFill>
        <p:spPr>
          <a:xfrm>
            <a:off x="203040" y="6396120"/>
            <a:ext cx="1815840" cy="4474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onsolas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449A77-8898-4ECB-A8E7-A09261D90F48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6B907B3A-62B6-42F2-87A4-03F7D2D8E89B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-266760">
              <a:lnSpc>
                <a:spcPct val="90000"/>
              </a:lnSpc>
              <a:spcBef>
                <a:spcPts val="1440"/>
              </a:spcBef>
              <a:buClr>
                <a:srgbClr val="7d0900"/>
              </a:buClr>
              <a:buFont typeface="Wingdings" charset="2"/>
              <a:buChar char="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9000">
              <a:lnSpc>
                <a:spcPct val="90000"/>
              </a:lnSpc>
              <a:spcBef>
                <a:spcPts val="799"/>
              </a:spcBef>
              <a:buClr>
                <a:srgbClr val="7d09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62000">
              <a:lnSpc>
                <a:spcPct val="90000"/>
              </a:lnSpc>
              <a:spcBef>
                <a:spcPts val="479"/>
              </a:spcBef>
              <a:buClr>
                <a:srgbClr val="7d09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93800" indent="-166680">
              <a:lnSpc>
                <a:spcPct val="90000"/>
              </a:lnSpc>
              <a:spcBef>
                <a:spcPts val="159"/>
              </a:spcBef>
              <a:buClr>
                <a:srgbClr val="7d0900"/>
              </a:buClr>
              <a:buFont typeface="Aria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55800" indent="-158760">
              <a:lnSpc>
                <a:spcPct val="90000"/>
              </a:lnSpc>
              <a:buClr>
                <a:srgbClr val="7d0900"/>
              </a:buClr>
              <a:buFont typeface="Arial"/>
              <a:buChar char="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27960" y="596880"/>
            <a:ext cx="115290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7B75AAFB-2EE6-4A65-8EAF-6539FBDEC7CD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8D215D75-562F-4CFF-A0DC-D7B12DB029DE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-266760">
              <a:lnSpc>
                <a:spcPct val="90000"/>
              </a:lnSpc>
              <a:spcBef>
                <a:spcPts val="1440"/>
              </a:spcBef>
              <a:buClr>
                <a:srgbClr val="7d0900"/>
              </a:buClr>
              <a:buFont typeface="Wingdings" charset="2"/>
              <a:buChar char="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9000">
              <a:lnSpc>
                <a:spcPct val="90000"/>
              </a:lnSpc>
              <a:spcBef>
                <a:spcPts val="799"/>
              </a:spcBef>
              <a:buClr>
                <a:srgbClr val="7d09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62000">
              <a:lnSpc>
                <a:spcPct val="90000"/>
              </a:lnSpc>
              <a:spcBef>
                <a:spcPts val="479"/>
              </a:spcBef>
              <a:buClr>
                <a:srgbClr val="7d09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93800" indent="-166680">
              <a:lnSpc>
                <a:spcPct val="90000"/>
              </a:lnSpc>
              <a:spcBef>
                <a:spcPts val="159"/>
              </a:spcBef>
              <a:buClr>
                <a:srgbClr val="7d0900"/>
              </a:buClr>
              <a:buFont typeface="Aria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55800" indent="-158760">
              <a:lnSpc>
                <a:spcPct val="90000"/>
              </a:lnSpc>
              <a:buClr>
                <a:srgbClr val="7d0900"/>
              </a:buClr>
              <a:buFont typeface="Arial"/>
              <a:buChar char="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jmumaw\Desktop\DCS\Pics\Logo.JPG"/>
          <p:cNvPicPr/>
          <p:nvPr/>
        </p:nvPicPr>
        <p:blipFill>
          <a:blip r:embed="rId2"/>
          <a:stretch/>
        </p:blipFill>
        <p:spPr>
          <a:xfrm>
            <a:off x="203040" y="6396120"/>
            <a:ext cx="1815840" cy="44748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B52B876D-446E-4C44-BA0E-C81ED04CC286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-266760">
              <a:lnSpc>
                <a:spcPct val="90000"/>
              </a:lnSpc>
              <a:spcBef>
                <a:spcPts val="1440"/>
              </a:spcBef>
              <a:buClr>
                <a:srgbClr val="7d0900"/>
              </a:buClr>
              <a:buFont typeface="Wingdings" charset="2"/>
              <a:buChar char="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9000">
              <a:lnSpc>
                <a:spcPct val="90000"/>
              </a:lnSpc>
              <a:spcBef>
                <a:spcPts val="799"/>
              </a:spcBef>
              <a:buClr>
                <a:srgbClr val="7d09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62000">
              <a:lnSpc>
                <a:spcPct val="90000"/>
              </a:lnSpc>
              <a:spcBef>
                <a:spcPts val="479"/>
              </a:spcBef>
              <a:buClr>
                <a:srgbClr val="7d09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93800" indent="-166680">
              <a:lnSpc>
                <a:spcPct val="90000"/>
              </a:lnSpc>
              <a:spcBef>
                <a:spcPts val="159"/>
              </a:spcBef>
              <a:buClr>
                <a:srgbClr val="7d0900"/>
              </a:buClr>
              <a:buFont typeface="Aria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55800" indent="-158760">
              <a:lnSpc>
                <a:spcPct val="90000"/>
              </a:lnSpc>
              <a:buClr>
                <a:srgbClr val="7d0900"/>
              </a:buClr>
              <a:buFont typeface="Arial"/>
              <a:buChar char="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:\Users\jmumaw\Desktop\DCS\Pics\Logo.JPG"/>
          <p:cNvPicPr/>
          <p:nvPr/>
        </p:nvPicPr>
        <p:blipFill>
          <a:blip r:embed="rId2"/>
          <a:stretch/>
        </p:blipFill>
        <p:spPr>
          <a:xfrm>
            <a:off x="203040" y="6396120"/>
            <a:ext cx="1815840" cy="447480"/>
          </a:xfrm>
          <a:prstGeom prst="rect">
            <a:avLst/>
          </a:prstGeom>
          <a:ln w="9525">
            <a:noFill/>
          </a:ln>
        </p:spPr>
      </p:pic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8"/>
          <p:cNvSpPr/>
          <p:nvPr/>
        </p:nvSpPr>
        <p:spPr>
          <a:xfrm>
            <a:off x="11533680" y="6705720"/>
            <a:ext cx="353160" cy="137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fld id="{D9570D93-3B38-4453-AB4D-D21B3796F53A}" type="slidenum">
              <a:rPr b="0" lang="en-GB" sz="900" spc="-1" strike="noStrike">
                <a:solidFill>
                  <a:srgbClr val="77787b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27960" y="2092320"/>
            <a:ext cx="11529000" cy="13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-266760">
              <a:lnSpc>
                <a:spcPct val="90000"/>
              </a:lnSpc>
              <a:spcBef>
                <a:spcPts val="1440"/>
              </a:spcBef>
              <a:buClr>
                <a:srgbClr val="7d0900"/>
              </a:buClr>
              <a:buFont typeface="Wingdings" charset="2"/>
              <a:buChar char="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9000">
              <a:lnSpc>
                <a:spcPct val="90000"/>
              </a:lnSpc>
              <a:spcBef>
                <a:spcPts val="799"/>
              </a:spcBef>
              <a:buClr>
                <a:srgbClr val="7d09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62000">
              <a:lnSpc>
                <a:spcPct val="90000"/>
              </a:lnSpc>
              <a:spcBef>
                <a:spcPts val="479"/>
              </a:spcBef>
              <a:buClr>
                <a:srgbClr val="7d09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93800" indent="-166680">
              <a:lnSpc>
                <a:spcPct val="90000"/>
              </a:lnSpc>
              <a:spcBef>
                <a:spcPts val="159"/>
              </a:spcBef>
              <a:buClr>
                <a:srgbClr val="7d0900"/>
              </a:buClr>
              <a:buFont typeface="Aria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55800" indent="-158760">
              <a:lnSpc>
                <a:spcPct val="90000"/>
              </a:lnSpc>
              <a:buClr>
                <a:srgbClr val="7d0900"/>
              </a:buClr>
              <a:buFont typeface="Arial"/>
              <a:buChar char="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C:\Users\jmumaw\Desktop\DCS\Pics\Logo.JPG"/>
          <p:cNvPicPr/>
          <p:nvPr/>
        </p:nvPicPr>
        <p:blipFill>
          <a:blip r:embed="rId2"/>
          <a:stretch/>
        </p:blipFill>
        <p:spPr>
          <a:xfrm>
            <a:off x="203040" y="6396120"/>
            <a:ext cx="1815840" cy="44748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Slide1 Template_1.jpg"/>
          <p:cNvPicPr/>
          <p:nvPr/>
        </p:nvPicPr>
        <p:blipFill>
          <a:blip r:embed="rId1"/>
          <a:stretch/>
        </p:blipFill>
        <p:spPr>
          <a:xfrm>
            <a:off x="0" y="12600"/>
            <a:ext cx="12178800" cy="68576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"/>
          <p:cNvSpPr/>
          <p:nvPr/>
        </p:nvSpPr>
        <p:spPr>
          <a:xfrm>
            <a:off x="203400" y="914400"/>
            <a:ext cx="5968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TIONAL MANAGEMENT QUARTE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ERFORMANCE REVIEW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ZN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203400" y="4419720"/>
            <a:ext cx="4520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ed by: DC TK  Mthomb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: 24 November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: Top Corners Rounded 60"/>
          <p:cNvSpPr/>
          <p:nvPr/>
        </p:nvSpPr>
        <p:spPr>
          <a:xfrm rot="5400000">
            <a:off x="5232240" y="-513144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4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203040" y="166356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-104040" y="41050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Table 9"/>
          <p:cNvGraphicFramePr/>
          <p:nvPr/>
        </p:nvGraphicFramePr>
        <p:xfrm>
          <a:off x="266760" y="20584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6/1282 = 80.0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9/69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6/1282 = 80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/84 = 47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6/1282 = 80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5/562 =47.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5/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= 52.3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Table 11"/>
          <p:cNvGraphicFramePr/>
          <p:nvPr/>
        </p:nvGraphicFramePr>
        <p:xfrm>
          <a:off x="228600" y="4572000"/>
          <a:ext cx="11658240" cy="18118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47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42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2/327 = 8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9/69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2/327 = 8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2/327 = 8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75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60/20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60/20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60/20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60/200 = 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/27 = 880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: Top Corners Rounded 60"/>
          <p:cNvSpPr/>
          <p:nvPr/>
        </p:nvSpPr>
        <p:spPr>
          <a:xfrm rot="5400000">
            <a:off x="5232240" y="-513144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228600" y="1523880"/>
            <a:ext cx="881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Table 11"/>
          <p:cNvGraphicFramePr/>
          <p:nvPr/>
        </p:nvGraphicFramePr>
        <p:xfrm>
          <a:off x="228600" y="1893240"/>
          <a:ext cx="11658240" cy="43106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116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5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8/18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8/18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8/18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/148 = 37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20/27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20/27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40/84 = 47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20/27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36/52 = 69.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5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124/15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124/15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124/155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48/48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22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6/70 =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/12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: Top Corners Rounded 60"/>
          <p:cNvSpPr/>
          <p:nvPr/>
        </p:nvSpPr>
        <p:spPr>
          <a:xfrm rot="5400000">
            <a:off x="5304600" y="-5287320"/>
            <a:ext cx="1142640" cy="117176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9520" y="1143000"/>
            <a:ext cx="1170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SOURCE OF UNDER-ACHIEVEMENT AT CORRECTIONAL CENTRE LEVEL MANAGEMENT AREA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Table 11"/>
          <p:cNvGraphicFramePr/>
          <p:nvPr/>
        </p:nvGraphicFramePr>
        <p:xfrm>
          <a:off x="228600" y="1789200"/>
          <a:ext cx="11810520" cy="4898160"/>
        </p:xfrm>
        <a:graphic>
          <a:graphicData uri="http://schemas.openxmlformats.org/drawingml/2006/table">
            <a:tbl>
              <a:tblPr/>
              <a:tblGrid>
                <a:gridCol w="1686960"/>
                <a:gridCol w="1686960"/>
                <a:gridCol w="1275840"/>
                <a:gridCol w="2098440"/>
                <a:gridCol w="1686960"/>
                <a:gridCol w="1686960"/>
                <a:gridCol w="1686960"/>
              </a:tblGrid>
              <a:tr h="69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9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Youth Centre CC  - Usethub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9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Qalakabusha C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34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 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scourt 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46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: Top Corners Rounded 60"/>
          <p:cNvSpPr/>
          <p:nvPr/>
        </p:nvSpPr>
        <p:spPr>
          <a:xfrm rot="5400000">
            <a:off x="5304600" y="-5287320"/>
            <a:ext cx="1142640" cy="117176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29520" y="1143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URCE OF UNDER-ACHIEVEMENT AT CORRECTIONAL CENTRE LEVEL MANAGEMENT AREA TO POPU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Table 11"/>
          <p:cNvGraphicFramePr/>
          <p:nvPr/>
        </p:nvGraphicFramePr>
        <p:xfrm>
          <a:off x="29520" y="1512360"/>
          <a:ext cx="12162240" cy="5185080"/>
        </p:xfrm>
        <a:graphic>
          <a:graphicData uri="http://schemas.openxmlformats.org/drawingml/2006/table">
            <a:tbl>
              <a:tblPr/>
              <a:tblGrid>
                <a:gridCol w="1490760"/>
                <a:gridCol w="1569240"/>
                <a:gridCol w="1728720"/>
                <a:gridCol w="2160720"/>
                <a:gridCol w="1737360"/>
                <a:gridCol w="1737360"/>
                <a:gridCol w="1737360"/>
              </a:tblGrid>
              <a:tr h="60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07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bongweni 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 Medium 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ort Sheps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 line with Covid-19 lockdown regulations, only Level four learners attended class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7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All the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7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on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ly AET Level 4 was in attendance during the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ders not attending classes  may resort to gangsterism which will increase the number of assaults and 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7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the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ly AET Level 4 was in attendance during the month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not attending classes  may resort to gangsterism which will increase the number of assaults and unnatural death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216000" y="1440000"/>
            <a:ext cx="1144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–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Table 11"/>
          <p:cNvGraphicFramePr/>
          <p:nvPr/>
        </p:nvGraphicFramePr>
        <p:xfrm>
          <a:off x="216000" y="1981080"/>
          <a:ext cx="11670840" cy="411444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87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0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83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5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4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216000" y="1440000"/>
            <a:ext cx="1144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–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Table 11"/>
          <p:cNvGraphicFramePr/>
          <p:nvPr/>
        </p:nvGraphicFramePr>
        <p:xfrm>
          <a:off x="216000" y="1981080"/>
          <a:ext cx="11670840" cy="450648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0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56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5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Arial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5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 marketing of GET educational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ordinator Dev &amp; Care and Regional Head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ing in of other levels  be resumed in line with the DCS COVID-19  risk adjusted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8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offenders participating in GET per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0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228600" y="3048120"/>
            <a:ext cx="891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Table 9"/>
          <p:cNvGraphicFramePr/>
          <p:nvPr/>
        </p:nvGraphicFramePr>
        <p:xfrm>
          <a:off x="228600" y="18082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06/3009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60/22164 = 3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06/3009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72/21851 = 3.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06/3009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36/22009 = 6.5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 143/22 009 = 23.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Table 11"/>
          <p:cNvGraphicFramePr/>
          <p:nvPr/>
        </p:nvGraphicFramePr>
        <p:xfrm>
          <a:off x="228600" y="3581280"/>
          <a:ext cx="11658240" cy="345492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62/993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5/7604 = 1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62/993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9/73 81 = 2.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62/9930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85/7163 = 3.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72/9930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4/7163 = 9.5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3/4098 = 6.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2/2875 = 2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3/4098 = 6.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3/2895 =1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3/4098 = 6.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1/2878 = 5.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38/4098 = 39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76/2878 = 13.0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0/2407 = 6.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1/1649 = 14.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0/2407 = 6.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2/1620 = 13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0/2407 = 6.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83/2052 = 13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60/2407 = 3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42/2052 = 70.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0/2106 = 6,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9/1537 = 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0/2106 = 6,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5/1534 = 12.7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0/2106 = 6,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8/1605 = 16.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840/2106 = 39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846/2106=40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030/1605 = 64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089/1605=68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Difference of 59 is with Q1 at Regional off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: Top Corners Rounded 60"/>
          <p:cNvSpPr/>
          <p:nvPr/>
        </p:nvSpPr>
        <p:spPr>
          <a:xfrm rot="5400000">
            <a:off x="5207400" y="-5190480"/>
            <a:ext cx="1439640" cy="1182060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6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"/>
          <p:cNvSpPr/>
          <p:nvPr/>
        </p:nvSpPr>
        <p:spPr>
          <a:xfrm>
            <a:off x="228600" y="1752480"/>
            <a:ext cx="891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Table 11"/>
          <p:cNvGraphicFramePr/>
          <p:nvPr/>
        </p:nvGraphicFramePr>
        <p:xfrm>
          <a:off x="178920" y="2666880"/>
          <a:ext cx="11658240" cy="2107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1/2865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5/2105 = 8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1/2865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7/2045 =8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1/2865 = 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4/1963 = 10,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46/2865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97/1963 = 45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18/6262 = 6.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4679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18/6262 = 6.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4614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18/6262 = 6.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4548 = 0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08/6262 = 40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4548 = 0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2/2422/= 6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/1715 = 0.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2/2422/= 6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6/1762 = 4,8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2/2422/= 6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3/1800 = 10,7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72/2422 =4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2/1800 = 37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: Top Corners Rounded 60"/>
          <p:cNvSpPr/>
          <p:nvPr/>
        </p:nvSpPr>
        <p:spPr>
          <a:xfrm rot="5400000">
            <a:off x="5577840" y="-5547960"/>
            <a:ext cx="106632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29520" y="106668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Table 11"/>
          <p:cNvGraphicFramePr/>
          <p:nvPr/>
        </p:nvGraphicFramePr>
        <p:xfrm>
          <a:off x="0" y="1713240"/>
          <a:ext cx="12191760" cy="548964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08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72/9930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4/7163 = 9.5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90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38/4098 = 39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76/2878 = 13.0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27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60/2407 = 39.8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42/2052 = 70.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840/2106 = 39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030/1605 = 64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2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9520" y="144000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Table 11"/>
          <p:cNvGraphicFramePr/>
          <p:nvPr/>
        </p:nvGraphicFramePr>
        <p:xfrm>
          <a:off x="0" y="2086200"/>
          <a:ext cx="12191760" cy="461880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3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46/2865 = 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97/1963 = 45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08/6262 = 40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4548 = 0.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72/2422 = 4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2/1800 = 37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 that the limits posed by the lock down. Less spiritual workers were allowed to work according to the risk adjustment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spiritu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6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0" y="4292640"/>
            <a:ext cx="12191760" cy="1141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2311560" y="0"/>
            <a:ext cx="11844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420280" y="0"/>
            <a:ext cx="9761400" cy="4292280"/>
          </a:xfrm>
          <a:prstGeom prst="rect">
            <a:avLst/>
          </a:prstGeom>
          <a:solidFill>
            <a:schemeClr val="accent6">
              <a:lumMod val="7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2420280" y="4415760"/>
            <a:ext cx="9761400" cy="2450880"/>
          </a:xfrm>
          <a:prstGeom prst="rect">
            <a:avLst/>
          </a:prstGeom>
          <a:solidFill>
            <a:schemeClr val="accent6">
              <a:lumMod val="60000"/>
              <a:lumOff val="40000"/>
              <a:alpha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2908080" y="532080"/>
            <a:ext cx="78508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2020/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PERFORMANCE TARGETS NOT ACHIEVED DURING QUARTER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-228600" y="1650240"/>
            <a:ext cx="1165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Table 11"/>
          <p:cNvGraphicFramePr/>
          <p:nvPr/>
        </p:nvGraphicFramePr>
        <p:xfrm>
          <a:off x="216000" y="2298960"/>
          <a:ext cx="11670840" cy="446724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58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8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29520" y="1440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Table 11"/>
          <p:cNvGraphicFramePr/>
          <p:nvPr/>
        </p:nvGraphicFramePr>
        <p:xfrm>
          <a:off x="29520" y="2043000"/>
          <a:ext cx="11857320" cy="3976560"/>
        </p:xfrm>
        <a:graphic>
          <a:graphicData uri="http://schemas.openxmlformats.org/drawingml/2006/table">
            <a:tbl>
              <a:tblPr/>
              <a:tblGrid>
                <a:gridCol w="1976040"/>
                <a:gridCol w="1976040"/>
                <a:gridCol w="1976040"/>
                <a:gridCol w="1976040"/>
                <a:gridCol w="1976040"/>
                <a:gridCol w="1976040"/>
              </a:tblGrid>
              <a:tr h="73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spiritu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spiritual care services as the Covid 19 Risk Adjusted Strategy Regulation are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84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receiving spiritual ca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6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228600" y="3048120"/>
            <a:ext cx="891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Table 9"/>
          <p:cNvGraphicFramePr/>
          <p:nvPr/>
        </p:nvGraphicFramePr>
        <p:xfrm>
          <a:off x="228600" y="18082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0/30090= 1.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3/22164 = 1.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0/30090= 1.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3/218531 =1.3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0/30090= 1.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46/22009 = 1.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49/22009 = 7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Table 11"/>
          <p:cNvGraphicFramePr/>
          <p:nvPr/>
        </p:nvGraphicFramePr>
        <p:xfrm>
          <a:off x="228600" y="3581280"/>
          <a:ext cx="11658240" cy="26164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9930 = 1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4/7604 =0.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9930 = 1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/7389 = 0.3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9930 = 1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7163 = 0.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20/9930 = 7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5/7163 = 3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4098 = 1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8/2875 = 1.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4098 = 1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/2895 = 0.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4098 = 1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/2878 = 0.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0/4098 = 8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4/2878 = 8.4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1649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162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052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052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2106 = 2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6/1537 = 4.2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2106 = 2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5/1534 = 4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0/2106 = 2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/1605 = 3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0/2106 = 17.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5/1605 = 22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: Top Corners Rounded 60"/>
          <p:cNvSpPr/>
          <p:nvPr/>
        </p:nvSpPr>
        <p:spPr>
          <a:xfrm rot="5400000">
            <a:off x="5207400" y="-5190480"/>
            <a:ext cx="1439640" cy="1182060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2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228600" y="1752480"/>
            <a:ext cx="891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Table 11"/>
          <p:cNvGraphicFramePr/>
          <p:nvPr/>
        </p:nvGraphicFramePr>
        <p:xfrm>
          <a:off x="178920" y="2666880"/>
          <a:ext cx="11658240" cy="2107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865 = 1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105 = 1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865 = 1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4/2045 = 1.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865 = 1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1963 = 2.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0/2865 = 6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8/1963 = 9.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0/6262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4679 = 1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0/6262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/4614 = 1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0/6262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5/4548 = 2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0/6262 = 8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45/4548 = 9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422 = 1.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7/1715 = 2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422 = 1.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/1762 = 2.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2422 = 1.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1/1800 = 2.8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0/2422 = 7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2/1800 = 10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: Top Corners Rounded 60"/>
          <p:cNvSpPr/>
          <p:nvPr/>
        </p:nvSpPr>
        <p:spPr>
          <a:xfrm rot="5400000">
            <a:off x="5577840" y="-5547960"/>
            <a:ext cx="106632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29520" y="106668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Table 11"/>
          <p:cNvGraphicFramePr/>
          <p:nvPr/>
        </p:nvGraphicFramePr>
        <p:xfrm>
          <a:off x="0" y="1713240"/>
          <a:ext cx="12191760" cy="543168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08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20/9930 = 7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5/7163 = 3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at limitation of the risk a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90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0/4098 = 8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4/2878 = 8.4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get for the quarter not met due to that limitation of the risk ad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27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407 = 0.00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052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get for the quarter not met due to that limitation of the risk ad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0/2106 = 17.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5/1605 = 22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at limitation of the risk a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98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29520" y="144000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Table 11"/>
          <p:cNvGraphicFramePr/>
          <p:nvPr/>
        </p:nvGraphicFramePr>
        <p:xfrm>
          <a:off x="0" y="2086200"/>
          <a:ext cx="12191760" cy="461880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3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0/2865 = 6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8/1963 = 9.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get for the quarter not met due to that limitation of the risk ad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0/6262 = 8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45/4548 = 9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get for the quarter not met due to that limitation of the risk ad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0/2422 = 7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2/1800 = 10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at limitation of the risk adjustment strategy. Size of the groups were limited to 8- 10 depending on the size of the 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the provision of  fully fledged psychological care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02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-228600" y="1673640"/>
            <a:ext cx="1165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Table 11"/>
          <p:cNvGraphicFramePr/>
          <p:nvPr/>
        </p:nvGraphicFramePr>
        <p:xfrm>
          <a:off x="216000" y="2298960"/>
          <a:ext cx="11670840" cy="513684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58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06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: Top Corners Rounded 60"/>
          <p:cNvSpPr/>
          <p:nvPr/>
        </p:nvSpPr>
        <p:spPr>
          <a:xfrm rot="5400000">
            <a:off x="5223960" y="-5166720"/>
            <a:ext cx="1439640" cy="11886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29520" y="1440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Table 11"/>
          <p:cNvGraphicFramePr/>
          <p:nvPr/>
        </p:nvGraphicFramePr>
        <p:xfrm>
          <a:off x="29520" y="2043000"/>
          <a:ext cx="11857320" cy="3976560"/>
        </p:xfrm>
        <a:graphic>
          <a:graphicData uri="http://schemas.openxmlformats.org/drawingml/2006/table">
            <a:tbl>
              <a:tblPr/>
              <a:tblGrid>
                <a:gridCol w="1976040"/>
                <a:gridCol w="1976040"/>
                <a:gridCol w="1976040"/>
                <a:gridCol w="1976040"/>
                <a:gridCol w="1976040"/>
                <a:gridCol w="1976040"/>
              </a:tblGrid>
              <a:tr h="73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involve  more offenders in psychological car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are involve in psychological care services as the Covid 19 Risk Adjusted Strategy Regulation are not relax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1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receiving psychological ca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6"/>
          <p:cNvGrpSpPr/>
          <p:nvPr/>
        </p:nvGrpSpPr>
        <p:grpSpPr>
          <a:xfrm>
            <a:off x="65880" y="-21600"/>
            <a:ext cx="8391960" cy="6270120"/>
            <a:chOff x="65880" y="-21600"/>
            <a:chExt cx="8391960" cy="6270120"/>
          </a:xfrm>
        </p:grpSpPr>
        <p:sp>
          <p:nvSpPr>
            <p:cNvPr id="412" name="Rectangle: Top Corners Rounded 24"/>
            <p:cNvSpPr/>
            <p:nvPr/>
          </p:nvSpPr>
          <p:spPr>
            <a:xfrm rot="10800000">
              <a:off x="651600" y="-8280"/>
              <a:ext cx="7220520" cy="6256800"/>
            </a:xfrm>
            <a:prstGeom prst="round2SameRect">
              <a:avLst>
                <a:gd name="adj1" fmla="val 13687"/>
                <a:gd name="adj2" fmla="val 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cc9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Isosceles Triangle 3"/>
            <p:cNvSpPr/>
            <p:nvPr/>
          </p:nvSpPr>
          <p:spPr>
            <a:xfrm>
              <a:off x="7859880" y="-216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Isosceles Triangle 3"/>
            <p:cNvSpPr/>
            <p:nvPr/>
          </p:nvSpPr>
          <p:spPr>
            <a:xfrm flipV="1" rot="10800000">
              <a:off x="65880" y="-90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-360 h 1535400"/>
                <a:gd name="textAreaBottom" fmla="*/ 153540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Box 1"/>
          <p:cNvSpPr/>
          <p:nvPr/>
        </p:nvSpPr>
        <p:spPr>
          <a:xfrm>
            <a:off x="838080" y="1088640"/>
            <a:ext cx="69105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PROGRAM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6000" spc="-1" strike="noStrike">
                <a:solidFill>
                  <a:srgbClr val="ffffff"/>
                </a:solidFill>
                <a:latin typeface="Arial Black"/>
              </a:rPr>
              <a:t>C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: Top Corners Rounded 60"/>
          <p:cNvSpPr/>
          <p:nvPr/>
        </p:nvSpPr>
        <p:spPr>
          <a:xfrm rot="5400000">
            <a:off x="5278680" y="-52387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228600" y="3048120"/>
            <a:ext cx="891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Table 9"/>
          <p:cNvGraphicFramePr/>
          <p:nvPr/>
        </p:nvGraphicFramePr>
        <p:xfrm>
          <a:off x="228600" y="18082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/94 = 87.23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9/498 = 29.9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/8 = 7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73/736 = 50.68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1" name="Table 11"/>
          <p:cNvGraphicFramePr/>
          <p:nvPr/>
        </p:nvGraphicFramePr>
        <p:xfrm>
          <a:off x="228600" y="3581280"/>
          <a:ext cx="11658240" cy="26164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12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7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2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141 = 85.1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/9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5.252 = 29.76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7/264 = 32.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/9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32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/4 = 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/45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/8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/13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/1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/22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-153720"/>
            <a:ext cx="184320" cy="30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ZA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-153720"/>
            <a:ext cx="184320" cy="30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ZA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-153720"/>
            <a:ext cx="184320" cy="30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ZA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-153720"/>
            <a:ext cx="184320" cy="30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ZA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Table 4"/>
          <p:cNvGraphicFramePr/>
          <p:nvPr/>
        </p:nvGraphicFramePr>
        <p:xfrm>
          <a:off x="609480" y="1295280"/>
          <a:ext cx="10972440" cy="1270440"/>
        </p:xfrm>
        <a:graphic>
          <a:graphicData uri="http://schemas.openxmlformats.org/drawingml/2006/table">
            <a:tbl>
              <a:tblPr/>
              <a:tblGrid>
                <a:gridCol w="2940120"/>
                <a:gridCol w="2259000"/>
                <a:gridCol w="2760840"/>
                <a:gridCol w="3012120"/>
              </a:tblGrid>
              <a:tr h="783000"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o of Mid term Targets per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ie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chie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measured annually /per academic 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7440"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27960" y="609480"/>
            <a:ext cx="11660400" cy="66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6760" indent="0" algn="ctr">
              <a:lnSpc>
                <a:spcPct val="90000"/>
              </a:lnSpc>
              <a:spcBef>
                <a:spcPts val="2160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d-term Performance Report on  Performance indicators 2019/2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4885560" y="3275280"/>
            <a:ext cx="181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chemeClr val="lt1"/>
                </a:solidFill>
                <a:latin typeface="Arial"/>
              </a:rPr>
              <a:t>Total Nor of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4885560" y="3275280"/>
            <a:ext cx="181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tal Nor of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Chart 15"/>
          <p:cNvGraphicFramePr/>
          <p:nvPr/>
        </p:nvGraphicFramePr>
        <p:xfrm>
          <a:off x="609480" y="2666880"/>
          <a:ext cx="10769400" cy="3733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: Top Corners Rounded 60"/>
          <p:cNvSpPr/>
          <p:nvPr/>
        </p:nvSpPr>
        <p:spPr>
          <a:xfrm rot="5400000">
            <a:off x="5190840" y="-5190480"/>
            <a:ext cx="1439640" cy="1182060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3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228600" y="1752480"/>
            <a:ext cx="891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Table 11"/>
          <p:cNvGraphicFramePr/>
          <p:nvPr/>
        </p:nvGraphicFramePr>
        <p:xfrm>
          <a:off x="178920" y="2666880"/>
          <a:ext cx="11658240" cy="2107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/1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/35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 / 0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/36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/55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/180 = 21.67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 / 1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5/236 = 40.2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 / 5 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 / 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/5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: Top Corners Rounded 60"/>
          <p:cNvSpPr/>
          <p:nvPr/>
        </p:nvSpPr>
        <p:spPr>
          <a:xfrm rot="5400000">
            <a:off x="5577840" y="-5547960"/>
            <a:ext cx="106632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29520" y="106668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Table 11"/>
          <p:cNvGraphicFramePr/>
          <p:nvPr/>
        </p:nvGraphicFramePr>
        <p:xfrm>
          <a:off x="0" y="1713240"/>
          <a:ext cx="12191760" cy="731700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08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/141 = 85.1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46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7/264 = 32.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27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/45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/22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29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dentified inmates who have tested for Corona virus Disease (Covid – 1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9520" y="1440000"/>
            <a:ext cx="12162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AREA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Table 11"/>
          <p:cNvGraphicFramePr/>
          <p:nvPr/>
        </p:nvGraphicFramePr>
        <p:xfrm>
          <a:off x="0" y="2086200"/>
          <a:ext cx="12191760" cy="554472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3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/36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5/236 = 40.2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/0 = 0.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/5 = 10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arget for the quarter not met due to the fact that identified inmates did not meet the set KZN DoH criteria for testing Covid -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he surge of infection within Correctional facilities  causing more  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uman capital and  other  Resources will  be stra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adequate service  provision and service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33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29520" y="1440000"/>
            <a:ext cx="1185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Table 11"/>
          <p:cNvGraphicFramePr/>
          <p:nvPr/>
        </p:nvGraphicFramePr>
        <p:xfrm>
          <a:off x="0" y="1809360"/>
          <a:ext cx="11886840" cy="56552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080"/>
                <a:gridCol w="1981080"/>
                <a:gridCol w="1981080"/>
                <a:gridCol w="1981080"/>
              </a:tblGrid>
              <a:tr h="60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6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53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53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27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37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: Top Corners Rounded 60"/>
          <p:cNvSpPr/>
          <p:nvPr/>
        </p:nvSpPr>
        <p:spPr>
          <a:xfrm rot="5400000">
            <a:off x="5223960" y="-5166720"/>
            <a:ext cx="1439640" cy="11886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29520" y="1440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Table 11"/>
          <p:cNvGraphicFramePr/>
          <p:nvPr/>
        </p:nvGraphicFramePr>
        <p:xfrm>
          <a:off x="29520" y="2043000"/>
          <a:ext cx="11857320" cy="4525560"/>
        </p:xfrm>
        <a:graphic>
          <a:graphicData uri="http://schemas.openxmlformats.org/drawingml/2006/table">
            <a:tbl>
              <a:tblPr/>
              <a:tblGrid>
                <a:gridCol w="1976040"/>
                <a:gridCol w="1976040"/>
                <a:gridCol w="1976040"/>
                <a:gridCol w="1976040"/>
                <a:gridCol w="1976040"/>
                <a:gridCol w="1976040"/>
              </a:tblGrid>
              <a:tr h="73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tinue to conduct awareness raising sessions for inmates and to identify suspected inmates fo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Dev &amp; Care, and Head of Cent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wareness raising is continued, inmates are identified and tested in line with the DoH Covid -19 protocols and the departmental Strategic Plan for 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1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chemeClr val="accent3"/>
                </a:solidFill>
                <a:latin typeface="Arial Black"/>
              </a:rPr>
              <a:t>Percentage of identified inmates who have tested for Corona virus Disease 2019 (COVID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6"/>
          <p:cNvGrpSpPr/>
          <p:nvPr/>
        </p:nvGrpSpPr>
        <p:grpSpPr>
          <a:xfrm>
            <a:off x="65880" y="-21600"/>
            <a:ext cx="8391960" cy="6270120"/>
            <a:chOff x="65880" y="-21600"/>
            <a:chExt cx="8391960" cy="6270120"/>
          </a:xfrm>
        </p:grpSpPr>
        <p:sp>
          <p:nvSpPr>
            <p:cNvPr id="443" name="Rectangle: Top Corners Rounded 24"/>
            <p:cNvSpPr/>
            <p:nvPr/>
          </p:nvSpPr>
          <p:spPr>
            <a:xfrm rot="10800000">
              <a:off x="651600" y="-8280"/>
              <a:ext cx="7220520" cy="6256800"/>
            </a:xfrm>
            <a:prstGeom prst="round2SameRect">
              <a:avLst>
                <a:gd name="adj1" fmla="val 13687"/>
                <a:gd name="adj2" fmla="val 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cc9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Isosceles Triangle 3"/>
            <p:cNvSpPr/>
            <p:nvPr/>
          </p:nvSpPr>
          <p:spPr>
            <a:xfrm>
              <a:off x="7859880" y="-216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Isosceles Triangle 3"/>
            <p:cNvSpPr/>
            <p:nvPr/>
          </p:nvSpPr>
          <p:spPr>
            <a:xfrm flipV="1" rot="10800000">
              <a:off x="65880" y="-90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-360 h 1535400"/>
                <a:gd name="textAreaBottom" fmla="*/ 153540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Box 1"/>
          <p:cNvSpPr/>
          <p:nvPr/>
        </p:nvSpPr>
        <p:spPr>
          <a:xfrm>
            <a:off x="651600" y="1088640"/>
            <a:ext cx="70974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PROGRAMME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6000" spc="-1" strike="noStrike">
                <a:solidFill>
                  <a:srgbClr val="ffffff"/>
                </a:solidFill>
                <a:latin typeface="Arial Black"/>
              </a:rPr>
              <a:t>SOCIAL REINTEG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228600" y="3048120"/>
            <a:ext cx="891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Table 9"/>
          <p:cNvGraphicFramePr/>
          <p:nvPr/>
        </p:nvGraphicFramePr>
        <p:xfrm>
          <a:off x="228600" y="18082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-1 327/1 621)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-81.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2" name="Table 11"/>
          <p:cNvGraphicFramePr/>
          <p:nvPr/>
        </p:nvGraphicFramePr>
        <p:xfrm>
          <a:off x="228600" y="3581280"/>
          <a:ext cx="11658240" cy="26164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: Top Corners Rounded 60"/>
          <p:cNvSpPr/>
          <p:nvPr/>
        </p:nvSpPr>
        <p:spPr>
          <a:xfrm rot="5400000">
            <a:off x="5207400" y="-5190480"/>
            <a:ext cx="1439640" cy="1182060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4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228600" y="1752480"/>
            <a:ext cx="891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Table 11"/>
          <p:cNvGraphicFramePr/>
          <p:nvPr/>
        </p:nvGraphicFramePr>
        <p:xfrm>
          <a:off x="178920" y="2666880"/>
          <a:ext cx="11658240" cy="2107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: Top Corners Rounded 60"/>
          <p:cNvSpPr/>
          <p:nvPr/>
        </p:nvSpPr>
        <p:spPr>
          <a:xfrm rot="5400000">
            <a:off x="5577840" y="-5547960"/>
            <a:ext cx="106632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29520" y="106668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Table 11"/>
          <p:cNvGraphicFramePr/>
          <p:nvPr/>
        </p:nvGraphicFramePr>
        <p:xfrm>
          <a:off x="0" y="1789200"/>
          <a:ext cx="12191760" cy="607968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43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sed and  lack of meaningful involvement of  victims  in re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ange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0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nc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5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tor to be inclu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st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6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: Top Corners Rounded 60"/>
          <p:cNvSpPr/>
          <p:nvPr/>
        </p:nvSpPr>
        <p:spPr>
          <a:xfrm rot="5400000">
            <a:off x="5391000" y="-5304240"/>
            <a:ext cx="1439640" cy="121622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9520" y="1440000"/>
            <a:ext cx="1103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Table 11"/>
          <p:cNvGraphicFramePr/>
          <p:nvPr/>
        </p:nvGraphicFramePr>
        <p:xfrm>
          <a:off x="0" y="2086200"/>
          <a:ext cx="12191760" cy="5496120"/>
        </p:xfrm>
        <a:graphic>
          <a:graphicData uri="http://schemas.openxmlformats.org/drawingml/2006/table">
            <a:tbl>
              <a:tblPr/>
              <a:tblGrid>
                <a:gridCol w="1741680"/>
                <a:gridCol w="1741680"/>
                <a:gridCol w="1741680"/>
                <a:gridCol w="1741680"/>
                <a:gridCol w="1741680"/>
                <a:gridCol w="1741680"/>
                <a:gridCol w="174168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32440">
                <a:tc>
                  <a:txBody>
                    <a:bodyPr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/0 =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B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4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0 = 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64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6"/>
          <p:cNvGrpSpPr/>
          <p:nvPr/>
        </p:nvGrpSpPr>
        <p:grpSpPr>
          <a:xfrm>
            <a:off x="65880" y="-21600"/>
            <a:ext cx="8391960" cy="6270120"/>
            <a:chOff x="65880" y="-21600"/>
            <a:chExt cx="8391960" cy="6270120"/>
          </a:xfrm>
        </p:grpSpPr>
        <p:sp>
          <p:nvSpPr>
            <p:cNvPr id="306" name="Rectangle: Top Corners Rounded 24"/>
            <p:cNvSpPr/>
            <p:nvPr/>
          </p:nvSpPr>
          <p:spPr>
            <a:xfrm rot="10800000">
              <a:off x="651600" y="-8280"/>
              <a:ext cx="7220520" cy="6256800"/>
            </a:xfrm>
            <a:prstGeom prst="round2SameRect">
              <a:avLst>
                <a:gd name="adj1" fmla="val 13687"/>
                <a:gd name="adj2" fmla="val 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cc9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Isosceles Triangle 3"/>
            <p:cNvSpPr/>
            <p:nvPr/>
          </p:nvSpPr>
          <p:spPr>
            <a:xfrm>
              <a:off x="7859880" y="-216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Isosceles Triangle 3"/>
            <p:cNvSpPr/>
            <p:nvPr/>
          </p:nvSpPr>
          <p:spPr>
            <a:xfrm flipV="1" rot="10800000">
              <a:off x="65880" y="-90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-360 h 1535400"/>
                <a:gd name="textAreaBottom" fmla="*/ 153540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1"/>
          <p:cNvSpPr/>
          <p:nvPr/>
        </p:nvSpPr>
        <p:spPr>
          <a:xfrm>
            <a:off x="651600" y="1088640"/>
            <a:ext cx="709740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PROGRAMM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5400" spc="-1" strike="noStrike">
                <a:solidFill>
                  <a:srgbClr val="ffffff"/>
                </a:solidFill>
                <a:latin typeface="Arial Black"/>
              </a:rPr>
              <a:t>INCARC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-228600" y="1673640"/>
            <a:ext cx="1165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Table 11"/>
          <p:cNvGraphicFramePr/>
          <p:nvPr/>
        </p:nvGraphicFramePr>
        <p:xfrm>
          <a:off x="216000" y="2298960"/>
          <a:ext cx="11670840" cy="429984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58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ange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nc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st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68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29520" y="1440000"/>
            <a:ext cx="117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Table 11"/>
          <p:cNvGraphicFramePr/>
          <p:nvPr/>
        </p:nvGraphicFramePr>
        <p:xfrm>
          <a:off x="29520" y="2043000"/>
          <a:ext cx="12162240" cy="6199560"/>
        </p:xfrm>
        <a:graphic>
          <a:graphicData uri="http://schemas.openxmlformats.org/drawingml/2006/table">
            <a:tbl>
              <a:tblPr/>
              <a:tblGrid>
                <a:gridCol w="2026800"/>
                <a:gridCol w="2026800"/>
                <a:gridCol w="2026800"/>
                <a:gridCol w="2026800"/>
                <a:gridCol w="2026800"/>
                <a:gridCol w="2026800"/>
              </a:tblGrid>
              <a:tr h="73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08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VOD resuscitated during lockdown  alert leve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arketing of VOD to Imbizos and local community radio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B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VOD resuscitated during lockdown  alert leve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arketing of VOD to Imbizos and local community radio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s Programme activities to commence according to Covid 19 Risk Adjustment Strate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 to allow for fully fledged restorative justice  activities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VOD resuscitated during lockdown  alert leve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arketing of VOD to Imbizos and local community radio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72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'Percentage increase of victims participating in Restorative Justice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4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7"/>
          <p:cNvSpPr/>
          <p:nvPr/>
        </p:nvSpPr>
        <p:spPr>
          <a:xfrm>
            <a:off x="124560" y="141660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201960" y="3232800"/>
            <a:ext cx="1005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Table 9"/>
          <p:cNvGraphicFramePr/>
          <p:nvPr/>
        </p:nvGraphicFramePr>
        <p:xfrm>
          <a:off x="228600" y="1828800"/>
          <a:ext cx="11658240" cy="11426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716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 -326/410)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-79.5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8" name="Table 11"/>
          <p:cNvGraphicFramePr/>
          <p:nvPr/>
        </p:nvGraphicFramePr>
        <p:xfrm>
          <a:off x="192240" y="3809880"/>
          <a:ext cx="11694600" cy="1928520"/>
        </p:xfrm>
        <a:graphic>
          <a:graphicData uri="http://schemas.openxmlformats.org/drawingml/2006/table">
            <a:tbl>
              <a:tblPr/>
              <a:tblGrid>
                <a:gridCol w="1299240"/>
                <a:gridCol w="1299240"/>
                <a:gridCol w="1299240"/>
                <a:gridCol w="1299240"/>
                <a:gridCol w="1299240"/>
                <a:gridCol w="1299240"/>
                <a:gridCol w="1299240"/>
                <a:gridCol w="1299240"/>
                <a:gridCol w="1299240"/>
              </a:tblGrid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: Top Corners Rounded 60"/>
          <p:cNvSpPr/>
          <p:nvPr/>
        </p:nvSpPr>
        <p:spPr>
          <a:xfrm rot="5400000">
            <a:off x="5214240" y="-5196960"/>
            <a:ext cx="1439640" cy="1183356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0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8"/>
          <p:cNvSpPr/>
          <p:nvPr/>
        </p:nvSpPr>
        <p:spPr>
          <a:xfrm>
            <a:off x="192240" y="1905120"/>
            <a:ext cx="1005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 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Table 11"/>
          <p:cNvGraphicFramePr/>
          <p:nvPr/>
        </p:nvGraphicFramePr>
        <p:xfrm>
          <a:off x="192240" y="2590920"/>
          <a:ext cx="11658240" cy="2080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12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8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M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4" name="TextBox 8"/>
          <p:cNvSpPr/>
          <p:nvPr/>
        </p:nvSpPr>
        <p:spPr>
          <a:xfrm>
            <a:off x="0" y="1440000"/>
            <a:ext cx="1127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Table 11"/>
          <p:cNvGraphicFramePr/>
          <p:nvPr/>
        </p:nvGraphicFramePr>
        <p:xfrm>
          <a:off x="29520" y="2133720"/>
          <a:ext cx="12009960" cy="5859000"/>
        </p:xfrm>
        <a:graphic>
          <a:graphicData uri="http://schemas.openxmlformats.org/drawingml/2006/table">
            <a:tbl>
              <a:tblPr/>
              <a:tblGrid>
                <a:gridCol w="1570680"/>
                <a:gridCol w="1600200"/>
                <a:gridCol w="1676160"/>
                <a:gridCol w="1752480"/>
                <a:gridCol w="1904760"/>
                <a:gridCol w="1752480"/>
                <a:gridCol w="1752480"/>
              </a:tblGrid>
              <a:tr h="40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1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nominator to be inclu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86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8" name="TextBox 8"/>
          <p:cNvSpPr/>
          <p:nvPr/>
        </p:nvSpPr>
        <p:spPr>
          <a:xfrm>
            <a:off x="216000" y="1440000"/>
            <a:ext cx="11061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CORRECTIONAL CENTRE LEVEL MANAGEMENT ARE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Table 11"/>
          <p:cNvGraphicFramePr/>
          <p:nvPr/>
        </p:nvGraphicFramePr>
        <p:xfrm>
          <a:off x="29520" y="2086200"/>
          <a:ext cx="12009960" cy="5926680"/>
        </p:xfrm>
        <a:graphic>
          <a:graphicData uri="http://schemas.openxmlformats.org/drawingml/2006/table">
            <a:tbl>
              <a:tblPr/>
              <a:tblGrid>
                <a:gridCol w="1715400"/>
                <a:gridCol w="1715400"/>
                <a:gridCol w="1715400"/>
                <a:gridCol w="1715400"/>
                <a:gridCol w="1715400"/>
                <a:gridCol w="1715400"/>
                <a:gridCol w="171540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56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56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56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/0 = 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storative Justice Programme suspended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Restorative Justice Programme due to Covid 19 Risk Adjusted Strategy (Suspension of visits to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oal  of effectively and efficiently reintegrating offenders in to communities  not realized and  lack of meaningful involvement of  victims  in restorative Justice  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90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: Top Corners Rounded 60"/>
          <p:cNvSpPr/>
          <p:nvPr/>
        </p:nvSpPr>
        <p:spPr>
          <a:xfrm rot="5400000">
            <a:off x="5533200" y="-5439600"/>
            <a:ext cx="1142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-228600" y="1143000"/>
            <a:ext cx="1158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Table 11"/>
          <p:cNvGraphicFramePr/>
          <p:nvPr/>
        </p:nvGraphicFramePr>
        <p:xfrm>
          <a:off x="29520" y="1512360"/>
          <a:ext cx="12162240" cy="5833080"/>
        </p:xfrm>
        <a:graphic>
          <a:graphicData uri="http://schemas.openxmlformats.org/drawingml/2006/table">
            <a:tbl>
              <a:tblPr/>
              <a:tblGrid>
                <a:gridCol w="2016000"/>
                <a:gridCol w="2028960"/>
                <a:gridCol w="1942560"/>
                <a:gridCol w="2115720"/>
                <a:gridCol w="2028960"/>
                <a:gridCol w="2028960"/>
              </a:tblGrid>
              <a:tr h="61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30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0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mpang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0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0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Kokst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94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18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: Top Corners Rounded 60"/>
          <p:cNvSpPr/>
          <p:nvPr/>
        </p:nvSpPr>
        <p:spPr>
          <a:xfrm rot="5400000">
            <a:off x="5384880" y="-5367600"/>
            <a:ext cx="1439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6" name="TextBox 8"/>
          <p:cNvSpPr/>
          <p:nvPr/>
        </p:nvSpPr>
        <p:spPr>
          <a:xfrm>
            <a:off x="-228600" y="1673640"/>
            <a:ext cx="1158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Table 11"/>
          <p:cNvGraphicFramePr/>
          <p:nvPr/>
        </p:nvGraphicFramePr>
        <p:xfrm>
          <a:off x="216000" y="2043000"/>
          <a:ext cx="11670840" cy="4773960"/>
        </p:xfrm>
        <a:graphic>
          <a:graphicData uri="http://schemas.openxmlformats.org/drawingml/2006/table">
            <a:tbl>
              <a:tblPr/>
              <a:tblGrid>
                <a:gridCol w="1945080"/>
                <a:gridCol w="1945080"/>
                <a:gridCol w="1945080"/>
                <a:gridCol w="1945080"/>
                <a:gridCol w="1945080"/>
                <a:gridCol w="1945080"/>
              </a:tblGrid>
              <a:tr h="6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298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98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ietermaritzb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98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l Correctional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mmissioner and Area Coordinator Cor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e d VOD Forums in each 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 tracing unit within the management are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d offenders to participate in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98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increase of offenders, parolees and probationers participating in Restorative Justi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1" descr="Slide1 Template_1.2_back.jpg"/>
          <p:cNvPicPr/>
          <p:nvPr/>
        </p:nvPicPr>
        <p:blipFill>
          <a:blip r:embed="rId1"/>
          <a:stretch/>
        </p:blipFill>
        <p:spPr>
          <a:xfrm>
            <a:off x="0" y="-2556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2758680" y="271440"/>
            <a:ext cx="4522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2"/>
          <p:cNvSpPr/>
          <p:nvPr/>
        </p:nvSpPr>
        <p:spPr>
          <a:xfrm>
            <a:off x="2603520" y="424080"/>
            <a:ext cx="6337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ZA" sz="2000" spc="-1" strike="noStrike">
                <a:solidFill>
                  <a:srgbClr val="005300"/>
                </a:solidFill>
                <a:latin typeface="Calibri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ZA" sz="2000" spc="-1" strike="noStrike">
                <a:solidFill>
                  <a:srgbClr val="005300"/>
                </a:solidFill>
                <a:latin typeface="Calibri"/>
              </a:rPr>
              <a:t>STRIVING FOR A SOUTH AFRICA IN WHICH PEOPLE ARE AND FEEL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: Top Corners Rounded 60"/>
          <p:cNvSpPr/>
          <p:nvPr/>
        </p:nvSpPr>
        <p:spPr>
          <a:xfrm rot="5400000">
            <a:off x="5079240" y="-5182560"/>
            <a:ext cx="1663200" cy="120286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63000" y="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injured as a result of reported assaults in Correctional Fac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203040" y="1663560"/>
            <a:ext cx="89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REGIONAL TARGET VERSUS PERFORMANCE FOR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QUARTER (2020/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-104040" y="41050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SOURCE OF UNDER-ACHIEVEMENT AT MANAGEMENT AR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Table 9"/>
          <p:cNvGraphicFramePr/>
          <p:nvPr/>
        </p:nvGraphicFramePr>
        <p:xfrm>
          <a:off x="266760" y="2058480"/>
          <a:ext cx="11658240" cy="10670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37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1e1918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 Zulu 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92/25120 = 1.5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05/22173 = 1.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5/25120 = 1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5/21851 = 2.0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93/25120 = 2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37/22009 = 2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37/22009 = 2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Table 11"/>
          <p:cNvGraphicFramePr/>
          <p:nvPr/>
        </p:nvGraphicFramePr>
        <p:xfrm>
          <a:off x="228600" y="4572000"/>
          <a:ext cx="11658240" cy="184032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  <a:gridCol w="1295280"/>
              </a:tblGrid>
              <a:tr h="47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20</a:t>
                      </a:r>
                      <a:br>
                        <a:rPr sz="1100"/>
                      </a:b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20 TAR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: 2020-20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7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24/7884 = 1.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77/7608 = 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55/7884 = 1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7/1620 = 2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6/7884 = 2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/7163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6/7884 = 2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/7163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2/2106 = 1.5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/1651 = 1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68/7381 = 3.6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5/2230 = 2.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/2106 = 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2252 = 2.3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/2106 = 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2252 = 2.3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6/2230 = 1.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4/1716 = 1.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1/2106 = 1.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/1762  = 2.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/2230 = 2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/1800 = 2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/2230 = 2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/1800 = 2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: Top Corners Rounded 60"/>
          <p:cNvSpPr/>
          <p:nvPr/>
        </p:nvSpPr>
        <p:spPr>
          <a:xfrm rot="5400000">
            <a:off x="5533200" y="-5515920"/>
            <a:ext cx="1142640" cy="1217484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9520" y="1143000"/>
            <a:ext cx="1170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SOURCE OF UNDER-ACHIEVEMENT AT CORRECTIONAL CENTRE LEVEL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Table 11"/>
          <p:cNvGraphicFramePr/>
          <p:nvPr/>
        </p:nvGraphicFramePr>
        <p:xfrm>
          <a:off x="29520" y="1789200"/>
          <a:ext cx="12191760" cy="5901120"/>
        </p:xfrm>
        <a:graphic>
          <a:graphicData uri="http://schemas.openxmlformats.org/drawingml/2006/table">
            <a:tbl>
              <a:tblPr/>
              <a:tblGrid>
                <a:gridCol w="1494360"/>
                <a:gridCol w="1676160"/>
                <a:gridCol w="1295280"/>
                <a:gridCol w="1523880"/>
                <a:gridCol w="2971800"/>
                <a:gridCol w="1487880"/>
                <a:gridCol w="174168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TARGET 2020/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 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S THAT CONTRIBUTED TOWARDS UNDER-ACHIEV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S FOR UND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 CAUS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CIATED RISK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86/7884 = 2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/7163 = 1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 Remand Detention  Fac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 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s were under lot of stress during lockdown and they tend to become irritable with each othe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spension of visits  caused the anxie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Uncertainty about if hey will survive Covid - 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Mass riot between gang members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scap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9/2106 = 2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/2252 = 2.3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scou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uring the month of August 2020 gang related violent activities were rife emanating from the death of an offender at Glencoe Correctional Centr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ovement of offenders from bigger centres also contributed to the increase in gang related violent incid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vid 19 Risk Adjusted Strategy Regulation are not relax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Mass riot between gang members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scap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73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4/2230 = 2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/1800 = 2.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. Waterval med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. Waterval med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Movement of offenders from bigger centres to Farm correctional centres triggered gangsteris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Gang  related assaults amongst sentenced offenders and remand detaine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Some offenders are still active and practicing gangsterism despite  the fact that gang management strategy has been implemented. During  level five Covid -19 regulation period offenders were frustrated because of tobacco unavailabilit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Mass riot between gang members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Escap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Unnatural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19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FORMANCE INDICATOR NOT ACHIE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000" spc="-1" strike="noStrike">
                <a:solidFill>
                  <a:srgbClr val="ffffff"/>
                </a:solidFill>
                <a:latin typeface="Arial Black"/>
              </a:rPr>
              <a:t>Percentage of inmates injured as a result of reported assaults in Correctional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-228600" y="1440000"/>
            <a:ext cx="1203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DURBAN PROJECT PLAN TO ADDRESS UNDER PERFORMANCE – MANAGEMENT AREA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Table 11"/>
          <p:cNvGraphicFramePr/>
          <p:nvPr/>
        </p:nvGraphicFramePr>
        <p:xfrm>
          <a:off x="216000" y="2181600"/>
          <a:ext cx="11670840" cy="4474800"/>
        </p:xfrm>
        <a:graphic>
          <a:graphicData uri="http://schemas.openxmlformats.org/drawingml/2006/table">
            <a:tbl>
              <a:tblPr/>
              <a:tblGrid>
                <a:gridCol w="1945080"/>
                <a:gridCol w="1496160"/>
                <a:gridCol w="2819160"/>
                <a:gridCol w="1519560"/>
                <a:gridCol w="1945080"/>
                <a:gridCol w="1945080"/>
              </a:tblGrid>
              <a:tr h="55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3592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Z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 Remand Detention  Fac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 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Resensitize officials on the implementation of the Anti Gang Strateg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Identify hotspots (sections) where assaults are rif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Control the movement of offenders during feeding.  (feeding in batches of grou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Placement of food trolleys closer to cells being fed to minimise distance to be travell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Combine available sections (officials present) to beef up security in the sec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Control and separate foreign nationa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Increase surprise searching of ce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Manage the complaints and requests of offend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Ensure the availability of the Dog Unit and EST during f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/ Area Coordinator Corrections  </a:t>
                      </a:r>
                      <a:r>
                        <a:rPr b="0" lang="en-ZA" sz="11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/ Manager Security/ Head of Centre/ CC Ops/ CC Staff Support/ DH Security/ Unit Managers/ Supervi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nti Gang Strategy   implement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otspots are closely monitor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ffender movement controll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urprise searches have been increas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aints and requests are being attended t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ST and Dog Unit is made available during feed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23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injured as a result of reported assaults in Correctional Fac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: Top Corners Rounded 60"/>
          <p:cNvSpPr/>
          <p:nvPr/>
        </p:nvSpPr>
        <p:spPr>
          <a:xfrm rot="5400000">
            <a:off x="5232240" y="-5215320"/>
            <a:ext cx="1439640" cy="11870280"/>
          </a:xfrm>
          <a:prstGeom prst="round2SameRect">
            <a:avLst>
              <a:gd name="adj1" fmla="val 23278"/>
              <a:gd name="adj2" fmla="val 0"/>
            </a:avLst>
          </a:prstGeom>
          <a:gradFill rotWithShape="0">
            <a:gsLst>
              <a:gs pos="0">
                <a:srgbClr val="009900">
                  <a:alpha val="71372"/>
                </a:srgbClr>
              </a:gs>
              <a:gs pos="100000">
                <a:srgbClr val="00bc8d">
                  <a:alpha val="67058"/>
                </a:srgbClr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-228600" y="1673640"/>
            <a:ext cx="121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PROJECT PLAN TO ADDRESS UNDER PERFORMANCE – MANAGEMENT AREA TO POP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Table 11"/>
          <p:cNvGraphicFramePr/>
          <p:nvPr/>
        </p:nvGraphicFramePr>
        <p:xfrm>
          <a:off x="216000" y="2043000"/>
          <a:ext cx="11670840" cy="5779800"/>
        </p:xfrm>
        <a:graphic>
          <a:graphicData uri="http://schemas.openxmlformats.org/drawingml/2006/table">
            <a:tbl>
              <a:tblPr/>
              <a:tblGrid>
                <a:gridCol w="1945080"/>
                <a:gridCol w="1496160"/>
                <a:gridCol w="2819160"/>
                <a:gridCol w="1519560"/>
                <a:gridCol w="1945080"/>
                <a:gridCol w="1945080"/>
              </a:tblGrid>
              <a:tr h="66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AL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 /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6480">
                      <a:solidFill>
                        <a:srgbClr val="bf7b17"/>
                      </a:solidFill>
                    </a:lnL>
                    <a:lnR w="6480">
                      <a:solidFill>
                        <a:srgbClr val="bf7b17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00926c"/>
                    </a:solidFill>
                  </a:tcPr>
                </a:tc>
              </a:tr>
              <a:tr h="1845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lenc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Prevention of assaults and inju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Surprise visits by Executive manage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Reopening of Recreational activ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Marketing of Educational program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Visitations reope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Surprise searc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/ Area Coordinator Corrections 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/ Manager Security/ Head of Centre/ CC Ops/ CC Staff Support/ DH Security/ Unit Managers/ Supervi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Assault Prevention Plans have been implemen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Visits by some Executive Management me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Visitation reopened with close monitoring of visi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Recreational activities arranged to keep inmates recreationally bus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Participation in Educational has been marke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45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Wa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1. Waterval med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2. Waterval med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ffective implementation of Gang management strategy , continue to hold security meetings 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Close monitoring of offende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chemeClr val="accent4"/>
                          </a:solidFill>
                          <a:latin typeface="Calibri Light"/>
                        </a:rPr>
                        <a:t>Proper handling of requests s and complain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rea Commissioner / Area Coordinator Corrections  </a:t>
                      </a:r>
                      <a:r>
                        <a:rPr b="0" lang="en-ZA" sz="1100" spc="-1" strike="noStrike">
                          <a:solidFill>
                            <a:schemeClr val="dk1"/>
                          </a:solidFill>
                          <a:latin typeface="Calibri Light"/>
                        </a:rPr>
                        <a:t>/ Manager Security/ Head of Centre/ CC Ops/ CC Staff Support/ DH Security/ Unit Managers/ Supervi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ctober 2020 and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ang management strategy has been implement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ovement of offenders within Units is being monito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aints and requests from offenders are being attended and responded t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1e1918"/>
                      </a:solidFill>
                    </a:lnL>
                    <a:lnR w="6480">
                      <a:solidFill>
                        <a:srgbClr val="1e1918"/>
                      </a:solidFill>
                    </a:lnR>
                    <a:lnT w="6480">
                      <a:solidFill>
                        <a:srgbClr val="1e1918"/>
                      </a:solidFill>
                    </a:lnT>
                    <a:lnB w="6480">
                      <a:solidFill>
                        <a:srgbClr val="1e191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27" name="Title 1"/>
          <p:cNvSpPr/>
          <p:nvPr/>
        </p:nvSpPr>
        <p:spPr>
          <a:xfrm>
            <a:off x="29520" y="56880"/>
            <a:ext cx="109558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PLAN TO ADDRESS UNDER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</a:pPr>
            <a:r>
              <a:rPr b="1" lang="en-ZA" sz="2400" spc="-1" strike="noStrike">
                <a:solidFill>
                  <a:srgbClr val="ffffff"/>
                </a:solidFill>
                <a:latin typeface="Arial Black"/>
              </a:rPr>
              <a:t>Percentage of inmates injured as a result of reported assaults in Correctional Fac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6"/>
          <p:cNvGrpSpPr/>
          <p:nvPr/>
        </p:nvGrpSpPr>
        <p:grpSpPr>
          <a:xfrm>
            <a:off x="65880" y="-21600"/>
            <a:ext cx="8391960" cy="6270120"/>
            <a:chOff x="65880" y="-21600"/>
            <a:chExt cx="8391960" cy="6270120"/>
          </a:xfrm>
        </p:grpSpPr>
        <p:sp>
          <p:nvSpPr>
            <p:cNvPr id="329" name="Rectangle: Top Corners Rounded 24"/>
            <p:cNvSpPr/>
            <p:nvPr/>
          </p:nvSpPr>
          <p:spPr>
            <a:xfrm rot="10800000">
              <a:off x="651600" y="-8280"/>
              <a:ext cx="7220520" cy="6256800"/>
            </a:xfrm>
            <a:prstGeom prst="round2SameRect">
              <a:avLst>
                <a:gd name="adj1" fmla="val 13687"/>
                <a:gd name="adj2" fmla="val 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cc9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Isosceles Triangle 3"/>
            <p:cNvSpPr/>
            <p:nvPr/>
          </p:nvSpPr>
          <p:spPr>
            <a:xfrm>
              <a:off x="7859880" y="-216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Isosceles Triangle 3"/>
            <p:cNvSpPr/>
            <p:nvPr/>
          </p:nvSpPr>
          <p:spPr>
            <a:xfrm flipV="1" rot="10800000">
              <a:off x="65880" y="-9000"/>
              <a:ext cx="597960" cy="153540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-360 h 1535400"/>
                <a:gd name="textAreaBottom" fmla="*/ 1535400 h 1535400"/>
              </a:gdLst>
              <a:ahLst/>
              <a:rect l="textAreaLeft" t="textAreaTop" r="textAreaRight" b="textAreaBottom"/>
              <a:pathLst>
                <a:path w="520700" h="1270000">
                  <a:moveTo>
                    <a:pt x="520700" y="1270000"/>
                  </a:moveTo>
                  <a:lnTo>
                    <a:pt x="0" y="0"/>
                  </a:lnTo>
                  <a:lnTo>
                    <a:pt x="12700" y="1270000"/>
                  </a:lnTo>
                  <a:lnTo>
                    <a:pt x="520700" y="1270000"/>
                  </a:lnTo>
                  <a:close/>
                </a:path>
              </a:pathLst>
            </a:custGeom>
            <a:solidFill>
              <a:srgbClr val="00990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72000" rIns="72000" tIns="72000" bIns="720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</a:pPr>
              <a:endParaRPr b="0" lang="en-ZA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1"/>
          <p:cNvSpPr/>
          <p:nvPr/>
        </p:nvSpPr>
        <p:spPr>
          <a:xfrm>
            <a:off x="651600" y="1088640"/>
            <a:ext cx="709740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ZA" sz="6600" spc="-1" strike="noStrike">
                <a:solidFill>
                  <a:srgbClr val="ffffff"/>
                </a:solidFill>
                <a:latin typeface="Arial Black"/>
              </a:rPr>
              <a:t>PROGRAMM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ZA" sz="5400" spc="-1" strike="noStrike">
                <a:solidFill>
                  <a:srgbClr val="ffffff"/>
                </a:solidFill>
                <a:latin typeface="Arial Black"/>
              </a:rPr>
              <a:t>REHABILI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94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afabab"/>
      </a:accent1>
      <a:accent2>
        <a:srgbClr val="e2583d"/>
      </a:accent2>
      <a:accent3>
        <a:srgbClr val="78d2d2"/>
      </a:accent3>
      <a:accent4>
        <a:srgbClr val="3b3939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3_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7d0900"/>
      </a:lt2>
      <a:accent1>
        <a:srgbClr val="808080"/>
      </a:accent1>
      <a:accent2>
        <a:srgbClr val="a0a0a0"/>
      </a:accent2>
      <a:accent3>
        <a:srgbClr val="ffffff"/>
      </a:accent3>
      <a:accent4>
        <a:srgbClr val="000000"/>
      </a:accent4>
      <a:accent5>
        <a:srgbClr val="c0c0c0"/>
      </a:accent5>
      <a:accent6>
        <a:srgbClr val="919191"/>
      </a:accent6>
      <a:hlink>
        <a:srgbClr val="b9b9b9"/>
      </a:hlink>
      <a:folHlink>
        <a:srgbClr val="dcdcd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98</TotalTime>
  <Application>LibreOffice/7.4.7.2$Linux_X86_64 LibreOffice_project/40$Build-2</Application>
  <AppVersion>15.0000</AppVersion>
  <Words>8964</Words>
  <Paragraphs>1714</Paragraphs>
  <Company>Ac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4:01Z</dcterms:created>
  <dc:creator>Rowan Smyth</dc:creator>
  <dc:description/>
  <dc:language>en-US</dc:language>
  <cp:lastModifiedBy>Molokomme, Moutloane</cp:lastModifiedBy>
  <cp:lastPrinted>2019-10-31T17:02:31Z</cp:lastPrinted>
  <dcterms:modified xsi:type="dcterms:W3CDTF">2020-11-20T10:32:09Z</dcterms:modified>
  <cp:revision>4162</cp:revision>
  <dc:subject/>
  <dc:title>A high level vision will be developed which will determine the required operating model…  Scope will include all core elements of D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48</vt:r8>
  </property>
</Properties>
</file>